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gif" ContentType="image/gif"/>
  <Override PartName="/ppt/media/image6.jpeg" ContentType="image/jpeg"/>
  <Override PartName="/ppt/media/image8.png" ContentType="image/png"/>
  <Override PartName="/ppt/media/image5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0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8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</p:sldIdLst>
  <p:sldSz cx="9144000" cy="6858000"/>
  <p:notesSz cx="7088188" cy="94281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7088400" cy="942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0080" cy="4716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1"/>
          </p:nvPr>
        </p:nvSpPr>
        <p:spPr>
          <a:xfrm>
            <a:off x="4014360" y="0"/>
            <a:ext cx="3070440" cy="4716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86920" y="708120"/>
            <a:ext cx="4713480" cy="3535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2"/>
          </p:nvPr>
        </p:nvSpPr>
        <p:spPr>
          <a:xfrm>
            <a:off x="0" y="8956440"/>
            <a:ext cx="3070080" cy="4712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3"/>
          </p:nvPr>
        </p:nvSpPr>
        <p:spPr>
          <a:xfrm>
            <a:off x="4014360" y="8956440"/>
            <a:ext cx="3070440" cy="4712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EE6083F9-B435-4BF0-9517-118A8E7E4E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719EA200-ACA2-427B-BD56-2C06AA64F8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ing team – secure, no politics, mento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lue all suggestion – out there is f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igning in… group individual ideas into big ideas – themes that enable you to tell a s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4440" y="914400"/>
            <a:ext cx="79246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55160" y="1981080"/>
            <a:ext cx="7085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55160" y="4210200"/>
            <a:ext cx="7085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4440" y="914400"/>
            <a:ext cx="79246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55160" y="1981080"/>
            <a:ext cx="3457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5760" y="1981080"/>
            <a:ext cx="3457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55160" y="4210200"/>
            <a:ext cx="3457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5760" y="4210200"/>
            <a:ext cx="3457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4440" y="914400"/>
            <a:ext cx="79246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55160" y="1981080"/>
            <a:ext cx="22813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50960" y="1981080"/>
            <a:ext cx="22813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46760" y="1981080"/>
            <a:ext cx="22813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55160" y="4210200"/>
            <a:ext cx="22813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50960" y="4210200"/>
            <a:ext cx="22813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46760" y="4210200"/>
            <a:ext cx="22813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4440" y="914400"/>
            <a:ext cx="79246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055160" y="1981080"/>
            <a:ext cx="708516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4440" y="914400"/>
            <a:ext cx="79246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55160" y="1981080"/>
            <a:ext cx="70851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4440" y="914400"/>
            <a:ext cx="79246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55160" y="1981080"/>
            <a:ext cx="34574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5760" y="1981080"/>
            <a:ext cx="34574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4440" y="914400"/>
            <a:ext cx="79246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04440" y="914400"/>
            <a:ext cx="7924680" cy="25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4440" y="914400"/>
            <a:ext cx="79246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55160" y="1981080"/>
            <a:ext cx="3457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5760" y="1981080"/>
            <a:ext cx="34574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055160" y="4210200"/>
            <a:ext cx="3457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4440" y="914400"/>
            <a:ext cx="79246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55160" y="1981080"/>
            <a:ext cx="708516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4440" y="914400"/>
            <a:ext cx="79246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55160" y="1981080"/>
            <a:ext cx="34574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760" y="1981080"/>
            <a:ext cx="3457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85760" y="4210200"/>
            <a:ext cx="3457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4440" y="914400"/>
            <a:ext cx="79246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55160" y="1981080"/>
            <a:ext cx="3457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5760" y="1981080"/>
            <a:ext cx="3457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55160" y="4210200"/>
            <a:ext cx="7085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4440" y="914400"/>
            <a:ext cx="79246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55160" y="1981080"/>
            <a:ext cx="7085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055160" y="4210200"/>
            <a:ext cx="7085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4440" y="914400"/>
            <a:ext cx="79246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55160" y="1981080"/>
            <a:ext cx="3457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5760" y="1981080"/>
            <a:ext cx="3457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55160" y="4210200"/>
            <a:ext cx="3457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85760" y="4210200"/>
            <a:ext cx="3457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4440" y="914400"/>
            <a:ext cx="79246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55160" y="1981080"/>
            <a:ext cx="22813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450960" y="1981080"/>
            <a:ext cx="22813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46760" y="1981080"/>
            <a:ext cx="22813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055160" y="4210200"/>
            <a:ext cx="22813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450960" y="4210200"/>
            <a:ext cx="22813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46760" y="4210200"/>
            <a:ext cx="22813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4440" y="914400"/>
            <a:ext cx="79246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55160" y="1981080"/>
            <a:ext cx="70851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4440" y="914400"/>
            <a:ext cx="79246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55160" y="1981080"/>
            <a:ext cx="34574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5760" y="1981080"/>
            <a:ext cx="34574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4440" y="914400"/>
            <a:ext cx="79246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4440" y="914400"/>
            <a:ext cx="7924680" cy="25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4440" y="914400"/>
            <a:ext cx="79246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55160" y="1981080"/>
            <a:ext cx="3457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5760" y="1981080"/>
            <a:ext cx="34574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55160" y="4210200"/>
            <a:ext cx="3457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4440" y="914400"/>
            <a:ext cx="79246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55160" y="1981080"/>
            <a:ext cx="34574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5760" y="1981080"/>
            <a:ext cx="3457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5760" y="4210200"/>
            <a:ext cx="3457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4440" y="914400"/>
            <a:ext cx="79246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55160" y="1981080"/>
            <a:ext cx="3457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5760" y="1981080"/>
            <a:ext cx="3457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55160" y="4210200"/>
            <a:ext cx="7085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762120"/>
            <a:ext cx="9144000" cy="75960"/>
          </a:xfrm>
          <a:prstGeom prst="rect">
            <a:avLst/>
          </a:prstGeom>
          <a:solidFill>
            <a:srgbClr val="c6e2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066cc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5334120" y="0"/>
            <a:ext cx="3809880" cy="762120"/>
          </a:xfrm>
          <a:custGeom>
            <a:avLst/>
            <a:gdLst>
              <a:gd name="textAreaLeft" fmla="*/ 0 w 3809880"/>
              <a:gd name="textAreaRight" fmla="*/ 3810240 w 380988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2297" h="437">
                <a:moveTo>
                  <a:pt x="527" y="5"/>
                </a:moveTo>
                <a:cubicBezTo>
                  <a:pt x="455" y="16"/>
                  <a:pt x="402" y="57"/>
                  <a:pt x="342" y="95"/>
                </a:cubicBezTo>
                <a:cubicBezTo>
                  <a:pt x="241" y="156"/>
                  <a:pt x="89" y="279"/>
                  <a:pt x="21" y="379"/>
                </a:cubicBezTo>
                <a:cubicBezTo>
                  <a:pt x="14" y="399"/>
                  <a:pt x="10" y="418"/>
                  <a:pt x="0" y="437"/>
                </a:cubicBezTo>
                <a:lnTo>
                  <a:pt x="2297" y="432"/>
                </a:lnTo>
                <a:lnTo>
                  <a:pt x="2297" y="0"/>
                </a:lnTo>
                <a:lnTo>
                  <a:pt x="527" y="5"/>
                </a:lnTo>
                <a:close/>
              </a:path>
            </a:pathLst>
          </a:custGeom>
          <a:solidFill>
            <a:srgbClr val="0066cc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3" name="Picture 5" descr="HMH white"/>
          <p:cNvPicPr/>
          <p:nvPr/>
        </p:nvPicPr>
        <p:blipFill>
          <a:blip r:embed="rId2"/>
          <a:stretch/>
        </p:blipFill>
        <p:spPr>
          <a:xfrm>
            <a:off x="5987880" y="295200"/>
            <a:ext cx="3003840" cy="31428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1f52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body"/>
          </p:nvPr>
        </p:nvSpPr>
        <p:spPr>
          <a:xfrm>
            <a:off x="1055160" y="1981080"/>
            <a:ext cx="70851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129600" indent="-129600">
              <a:spcBef>
                <a:spcPts val="3501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  <a:p>
            <a:pPr lvl="1" marL="417240" indent="-166680">
              <a:spcBef>
                <a:spcPts val="3501"/>
              </a:spcBef>
              <a:buClr>
                <a:srgbClr val="1f52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  <a:p>
            <a:pPr lvl="2" marL="786600" indent="-119160">
              <a:spcBef>
                <a:spcPts val="3501"/>
              </a:spcBef>
              <a:buClr>
                <a:srgbClr val="1f52c4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  <a:p>
            <a:pPr lvl="3" marL="964080" indent="-90360">
              <a:spcBef>
                <a:spcPts val="3501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  <a:p>
            <a:pPr lvl="4" marL="1254960" indent="-128520">
              <a:spcBef>
                <a:spcPts val="3501"/>
              </a:spcBef>
              <a:buClr>
                <a:srgbClr val="1f52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  <a:p>
            <a:pPr lvl="5" marL="1254960" indent="-128520">
              <a:spcBef>
                <a:spcPts val="35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  <a:p>
            <a:pPr lvl="6" marL="1254960" indent="-128520">
              <a:spcBef>
                <a:spcPts val="35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604440" y="914400"/>
            <a:ext cx="79246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Line 9"/>
          <p:cNvSpPr/>
          <p:nvPr/>
        </p:nvSpPr>
        <p:spPr>
          <a:xfrm>
            <a:off x="0" y="6705720"/>
            <a:ext cx="9144000" cy="0"/>
          </a:xfrm>
          <a:prstGeom prst="line">
            <a:avLst/>
          </a:prstGeom>
          <a:ln w="47520">
            <a:solidFill>
              <a:srgbClr val="c6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HMH_title_pg_8"/>
          <p:cNvPicPr/>
          <p:nvPr/>
        </p:nvPicPr>
        <p:blipFill>
          <a:blip r:embed="rId2"/>
          <a:stretch/>
        </p:blipFill>
        <p:spPr>
          <a:xfrm>
            <a:off x="0" y="0"/>
            <a:ext cx="9145440" cy="36576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3"/>
          <p:cNvSpPr/>
          <p:nvPr/>
        </p:nvSpPr>
        <p:spPr>
          <a:xfrm>
            <a:off x="3240" y="3200400"/>
            <a:ext cx="9144000" cy="228600"/>
          </a:xfrm>
          <a:prstGeom prst="rect">
            <a:avLst/>
          </a:prstGeom>
          <a:solidFill>
            <a:srgbClr val="c6e2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0" y="3276720"/>
            <a:ext cx="9147240" cy="7617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" name="Rectangle 5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1f52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48" name="Picture 8" descr="HMH_corp_hrz_4C(MED)"/>
          <p:cNvPicPr/>
          <p:nvPr/>
        </p:nvPicPr>
        <p:blipFill>
          <a:blip r:embed="rId3"/>
          <a:stretch/>
        </p:blipFill>
        <p:spPr>
          <a:xfrm>
            <a:off x="4724280" y="6172200"/>
            <a:ext cx="4191120" cy="382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1055160" y="1981080"/>
            <a:ext cx="70851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129600" indent="-129600">
              <a:spcBef>
                <a:spcPts val="3501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  <a:p>
            <a:pPr lvl="1" marL="417240" indent="-166680">
              <a:spcBef>
                <a:spcPts val="3501"/>
              </a:spcBef>
              <a:buClr>
                <a:srgbClr val="1f52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  <a:p>
            <a:pPr lvl="2" marL="786600" indent="-119160">
              <a:spcBef>
                <a:spcPts val="3501"/>
              </a:spcBef>
              <a:buClr>
                <a:srgbClr val="1f52c4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  <a:p>
            <a:pPr lvl="3" marL="964080" indent="-90360">
              <a:spcBef>
                <a:spcPts val="3501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  <a:p>
            <a:pPr lvl="4" marL="1254960" indent="-128520">
              <a:spcBef>
                <a:spcPts val="3501"/>
              </a:spcBef>
              <a:buClr>
                <a:srgbClr val="1f52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  <a:p>
            <a:pPr lvl="5" marL="1254960" indent="-128520">
              <a:spcBef>
                <a:spcPts val="35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  <a:p>
            <a:pPr lvl="6" marL="1254960" indent="-128520">
              <a:spcBef>
                <a:spcPts val="35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604440" y="914400"/>
            <a:ext cx="79246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annoliveri.typepad.com/.a/6a00d8341d7f0c53ef01156e658f71970c-800wi&amp;imgrefurl=http://www.annoliveri.typepad.com/&amp;usg=__goDPIWiyCtIgXHR713FcUK5NjXg=&amp;h=346&amp;w=347&amp;sz=137&amp;hl=en&amp;start=151&amp;um=1&amp;tbnid=ZnRQurqxz3RCCM:&amp;tbnh=120&amp;tbnw=120&amp;prev=/images%3Fq%3Dpost%2Bit%2Bnote%26ndsp%3D18%26hl%3Den%26sa%3DN%26start%3D144%26um%3D1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images.google.com/imgres?imgurl=http://annoliveri.typepad.com/.a/6a00d8341d7f0c53ef01156e658f71970c-800wi&amp;imgrefurl=http://www.annoliveri.typepad.com/&amp;usg=__goDPIWiyCtIgXHR713FcUK5NjXg=&amp;h=346&amp;w=347&amp;sz=137&amp;hl=en&amp;start=151&amp;um=1&amp;tbnid=ZnRQurqxz3RCCM:&amp;tbnh=120&amp;tbnw=120&amp;prev=/images%3Fq%3Dpost%2Bit%2Bnote%26ndsp%3D18%26hl%3Den%26sa%3DN%26start%3D144%26um%3D1" TargetMode="External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3419640"/>
            <a:ext cx="8077320" cy="5522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 Black"/>
              </a:rPr>
              <a:t>Stem Grant Writing 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685440" y="4191120"/>
            <a:ext cx="70866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52c4"/>
                </a:solidFill>
                <a:latin typeface="Arial Black"/>
              </a:rPr>
              <a:t>Grant Writing Toolkit</a:t>
            </a:r>
            <a:endParaRPr b="0" lang="en-US" sz="2000" spc="-1" strike="noStrike">
              <a:solidFill>
                <a:srgbClr val="1976d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52c4"/>
                </a:solidFill>
                <a:latin typeface="Arial Black"/>
              </a:rPr>
              <a:t>Dr. Nancy Updegraff</a:t>
            </a:r>
            <a:endParaRPr b="0" lang="en-US" sz="2000" spc="-1" strike="noStrike">
              <a:solidFill>
                <a:srgbClr val="1976d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76d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4440" y="914400"/>
            <a:ext cx="7924680" cy="5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Other Registrations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55160" y="1981080"/>
            <a:ext cx="7085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0">
              <a:lnSpc>
                <a:spcPct val="90000"/>
              </a:lnSpc>
              <a:spcBef>
                <a:spcPts val="4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01a52"/>
                </a:solidFill>
                <a:latin typeface="Arial"/>
              </a:rPr>
              <a:t>1                    4                           9</a:t>
            </a:r>
            <a:endParaRPr b="0" lang="en-US" sz="3200" spc="-1" strike="noStrike">
              <a:solidFill>
                <a:srgbClr val="1976d0"/>
              </a:solidFill>
              <a:latin typeface="Arial"/>
            </a:endParaRPr>
          </a:p>
          <a:p>
            <a:pPr marL="177840" indent="0">
              <a:lnSpc>
                <a:spcPct val="90000"/>
              </a:lnSpc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76d0"/>
              </a:solidFill>
              <a:latin typeface="Arial"/>
            </a:endParaRPr>
          </a:p>
          <a:p>
            <a:pPr marL="177840" indent="0">
              <a:lnSpc>
                <a:spcPct val="90000"/>
              </a:lnSpc>
              <a:spcBef>
                <a:spcPts val="4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76d0"/>
                </a:solidFill>
                <a:latin typeface="Arial"/>
              </a:rPr>
              <a:t>                  </a:t>
            </a:r>
            <a:r>
              <a:rPr b="0" lang="en-US" sz="3200" spc="-1" strike="noStrike">
                <a:solidFill>
                  <a:srgbClr val="1976d0"/>
                </a:solidFill>
                <a:latin typeface="Arial"/>
              </a:rPr>
              <a:t>Numbers                   </a:t>
            </a:r>
            <a:r>
              <a:rPr b="0" lang="en-US" sz="3200" spc="-1" strike="noStrike">
                <a:solidFill>
                  <a:srgbClr val="4fff70"/>
                </a:solidFill>
                <a:latin typeface="Arial"/>
              </a:rPr>
              <a:t>11</a:t>
            </a:r>
            <a:endParaRPr b="0" lang="en-US" sz="3200" spc="-1" strike="noStrike">
              <a:solidFill>
                <a:srgbClr val="1976d0"/>
              </a:solidFill>
              <a:latin typeface="Arial"/>
            </a:endParaRPr>
          </a:p>
          <a:p>
            <a:pPr marL="177840" indent="0">
              <a:lnSpc>
                <a:spcPct val="9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76d0"/>
              </a:solidFill>
              <a:latin typeface="Arial"/>
            </a:endParaRPr>
          </a:p>
          <a:p>
            <a:pPr marL="177840" indent="0">
              <a:lnSpc>
                <a:spcPct val="9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2                                45                            89</a:t>
            </a:r>
            <a:endParaRPr b="0" lang="en-US" sz="2400" spc="-1" strike="noStrike">
              <a:solidFill>
                <a:srgbClr val="1976d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4440" y="914400"/>
            <a:ext cx="7924680" cy="5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Types of Federal Competitive Grants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55160" y="1981080"/>
            <a:ext cx="7085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  <a:p>
            <a:pPr>
              <a:spcBef>
                <a:spcPts val="3501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Other federal opportunities grantsalert.com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  <a:p>
            <a:pPr>
              <a:spcBef>
                <a:spcPts val="3501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Grantwrangler . com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4440" y="914400"/>
            <a:ext cx="7924680" cy="5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What are the Types of Grants ?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55160" y="1981080"/>
            <a:ext cx="7085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0"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Foundations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  <a:p>
            <a:pPr marL="177840" indent="0"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76d0"/>
                </a:solidFill>
                <a:latin typeface="Arial"/>
              </a:rPr>
              <a:t>Many corporations or individuals form foundations to give money for selected causes to specific groups of people.</a:t>
            </a: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4440" y="914400"/>
            <a:ext cx="7924680" cy="5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Foundations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55160" y="1981080"/>
            <a:ext cx="7085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>
              <a:spcBef>
                <a:spcPts val="4000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76d0"/>
                </a:solidFill>
                <a:latin typeface="Arial"/>
              </a:rPr>
              <a:t>Check the source of funds for the foundation.</a:t>
            </a:r>
            <a:endParaRPr b="0" lang="en-US" sz="3200" spc="-1" strike="noStrike">
              <a:solidFill>
                <a:srgbClr val="1976d0"/>
              </a:solidFill>
              <a:latin typeface="Arial"/>
            </a:endParaRPr>
          </a:p>
          <a:p>
            <a:pPr marL="177840" indent="-177840">
              <a:spcBef>
                <a:spcPts val="4000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76d0"/>
                </a:solidFill>
                <a:latin typeface="Arial"/>
              </a:rPr>
              <a:t>Certain types of businesses may not be a good fit for your community. </a:t>
            </a:r>
            <a:endParaRPr b="0" lang="en-US" sz="3200" spc="-1" strike="noStrike">
              <a:solidFill>
                <a:srgbClr val="1976d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4440" y="914400"/>
            <a:ext cx="7924680" cy="5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Foundations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55160" y="1981080"/>
            <a:ext cx="7085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>
              <a:spcBef>
                <a:spcPts val="3501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Make sure the community is part of the foundation grant. 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  <a:p>
            <a:pPr marL="177840" indent="-177840">
              <a:spcBef>
                <a:spcPts val="3501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Make sure you state how the activities of the grant will be publicized.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  <a:p>
            <a:pPr marL="177840" indent="-177840">
              <a:spcBef>
                <a:spcPts val="3501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Foundations want recognition for their good works. 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4440" y="914400"/>
            <a:ext cx="7924680" cy="5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Getting Started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55160" y="1981080"/>
            <a:ext cx="7085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>
              <a:spcBef>
                <a:spcPts val="3501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Grants begin with ideas!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</p:txBody>
      </p:sp>
      <p:pic>
        <p:nvPicPr>
          <p:cNvPr id="124" name="Picture 4" descr="ag00317_"/>
          <p:cNvPicPr/>
          <p:nvPr/>
        </p:nvPicPr>
        <p:blipFill>
          <a:blip r:embed="rId1"/>
          <a:stretch/>
        </p:blipFill>
        <p:spPr>
          <a:xfrm>
            <a:off x="5562720" y="2895480"/>
            <a:ext cx="2361960" cy="259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4440" y="914400"/>
            <a:ext cx="7924680" cy="5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Getting Started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55160" y="1981080"/>
            <a:ext cx="7085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>
              <a:spcBef>
                <a:spcPts val="3501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Take the posted notes next to you and put one idea on each one for a program or project you would like to fund with a grant.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  <a:p>
            <a:pPr marL="177840"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  <a:p>
            <a:pPr marL="177840"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4440" y="914400"/>
            <a:ext cx="7924680" cy="5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Ideas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55160" y="1981080"/>
            <a:ext cx="7085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>
              <a:spcBef>
                <a:spcPts val="3501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Take posted notes and place on chart paper.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  <a:p>
            <a:pPr marL="177840" indent="-177840">
              <a:spcBef>
                <a:spcPts val="3501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Try to group your ideas with others. 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6a00d8341d7f0c53ef01156e658f71970c-800wi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19720" y="76212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6a00d8341d7f0c53ef01156e658f71970c-800wi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600200" y="762120"/>
            <a:ext cx="2666880" cy="26668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6a00d8341d7f0c53ef01156e658f71970c-800wi"/>
          <p:cNvPicPr/>
          <p:nvPr/>
        </p:nvPicPr>
        <p:blipFill>
          <a:blip r:embed="rId5"/>
          <a:stretch/>
        </p:blipFill>
        <p:spPr>
          <a:xfrm>
            <a:off x="1676520" y="3505320"/>
            <a:ext cx="2666880" cy="26668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6a00d8341d7f0c53ef01156e658f71970c-800wi"/>
          <p:cNvPicPr/>
          <p:nvPr/>
        </p:nvPicPr>
        <p:blipFill>
          <a:blip r:embed="rId6"/>
          <a:stretch/>
        </p:blipFill>
        <p:spPr>
          <a:xfrm>
            <a:off x="4572000" y="3505320"/>
            <a:ext cx="26668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4440" y="914400"/>
            <a:ext cx="7924680" cy="5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Ideas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55160" y="1981080"/>
            <a:ext cx="7085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>
              <a:spcBef>
                <a:spcPts val="3501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Having looked at all the ideas, think of ways you could accomplish these ideas.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  <a:p>
            <a:pPr marL="177840" indent="-177840">
              <a:spcBef>
                <a:spcPts val="3501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What products will you need to accomplish these ideas? 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  <a:p>
            <a:pPr marL="177840" indent="-177840">
              <a:spcBef>
                <a:spcPts val="3501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What type of professional development is required?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4440" y="914400"/>
            <a:ext cx="7924680" cy="5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Welcome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55160" y="1981080"/>
            <a:ext cx="7085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>
              <a:spcBef>
                <a:spcPts val="3501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Types of grants 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  <a:p>
            <a:pPr marL="177840" indent="-177840">
              <a:spcBef>
                <a:spcPts val="3501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Grant writing fundamentals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  <a:p>
            <a:pPr marL="177840" indent="-177840">
              <a:spcBef>
                <a:spcPts val="3501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Sources of grants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4440" y="914400"/>
            <a:ext cx="7924680" cy="5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Getting Started 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55160" y="1981080"/>
            <a:ext cx="7085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>
              <a:lnSpc>
                <a:spcPct val="90000"/>
              </a:lnSpc>
              <a:spcBef>
                <a:spcPts val="3501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Brainstorm – get ideas down first.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3501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Make a list of all the reasons why you need the grant.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3501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Make another list of all the things you hope to accomplish.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3501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Make a third list of all the activities or ways you can accomplish your goals. 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4440" y="914400"/>
            <a:ext cx="7924680" cy="5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Getting Started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55160" y="1981080"/>
            <a:ext cx="7085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>
              <a:spcBef>
                <a:spcPts val="2999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76d0"/>
                </a:solidFill>
                <a:latin typeface="Arial"/>
              </a:rPr>
              <a:t>Look over your lists and color code</a:t>
            </a:r>
            <a:endParaRPr b="0" lang="en-US" sz="2400" spc="-1" strike="noStrike">
              <a:solidFill>
                <a:srgbClr val="1976d0"/>
              </a:solidFill>
              <a:latin typeface="Arial"/>
            </a:endParaRPr>
          </a:p>
          <a:p>
            <a:pPr marL="177840" indent="-177840">
              <a:spcBef>
                <a:spcPts val="2999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76d0"/>
                </a:solidFill>
                <a:latin typeface="Arial"/>
              </a:rPr>
              <a:t>Mark in </a:t>
            </a:r>
            <a:r>
              <a:rPr b="1" lang="en-US" sz="2400" spc="-1" strike="noStrike">
                <a:solidFill>
                  <a:srgbClr val="4fff70"/>
                </a:solidFill>
                <a:latin typeface="Arial"/>
              </a:rPr>
              <a:t>green</a:t>
            </a:r>
            <a:r>
              <a:rPr b="0" lang="en-US" sz="2400" spc="-1" strike="noStrike">
                <a:solidFill>
                  <a:srgbClr val="1976d0"/>
                </a:solidFill>
                <a:latin typeface="Arial"/>
              </a:rPr>
              <a:t> all that seem possible.</a:t>
            </a:r>
            <a:endParaRPr b="0" lang="en-US" sz="2400" spc="-1" strike="noStrike">
              <a:solidFill>
                <a:srgbClr val="1976d0"/>
              </a:solidFill>
              <a:latin typeface="Arial"/>
            </a:endParaRPr>
          </a:p>
          <a:p>
            <a:pPr marL="177840" indent="-177840">
              <a:spcBef>
                <a:spcPts val="2999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76d0"/>
                </a:solidFill>
                <a:latin typeface="Arial"/>
              </a:rPr>
              <a:t>Mark in </a:t>
            </a:r>
            <a:r>
              <a:rPr b="1" lang="en-US" sz="2400" spc="-1" strike="noStrike">
                <a:solidFill>
                  <a:srgbClr val="1976d0"/>
                </a:solidFill>
                <a:latin typeface="Arial"/>
              </a:rPr>
              <a:t>blue</a:t>
            </a:r>
            <a:r>
              <a:rPr b="0" lang="en-US" sz="2400" spc="-1" strike="noStrike">
                <a:solidFill>
                  <a:srgbClr val="1976d0"/>
                </a:solidFill>
                <a:latin typeface="Arial"/>
              </a:rPr>
              <a:t> all that may be used.</a:t>
            </a:r>
            <a:endParaRPr b="0" lang="en-US" sz="2400" spc="-1" strike="noStrike">
              <a:solidFill>
                <a:srgbClr val="1976d0"/>
              </a:solidFill>
              <a:latin typeface="Arial"/>
            </a:endParaRPr>
          </a:p>
          <a:p>
            <a:pPr marL="177840" indent="-177840">
              <a:spcBef>
                <a:spcPts val="2999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76d0"/>
                </a:solidFill>
                <a:latin typeface="Arial"/>
              </a:rPr>
              <a:t>Mark in </a:t>
            </a:r>
            <a:r>
              <a:rPr b="0" lang="en-US" sz="2400" spc="-1" strike="noStrike">
                <a:solidFill>
                  <a:srgbClr val="d01a52"/>
                </a:solidFill>
                <a:latin typeface="Arial"/>
              </a:rPr>
              <a:t>red</a:t>
            </a:r>
            <a:r>
              <a:rPr b="0" lang="en-US" sz="2400" spc="-1" strike="noStrike">
                <a:solidFill>
                  <a:srgbClr val="1976d0"/>
                </a:solidFill>
                <a:latin typeface="Arial"/>
              </a:rPr>
              <a:t> all those that probably won’t be used.</a:t>
            </a:r>
            <a:endParaRPr b="0" lang="en-US" sz="2400" spc="-1" strike="noStrike">
              <a:solidFill>
                <a:srgbClr val="1976d0"/>
              </a:solidFill>
              <a:latin typeface="Arial"/>
            </a:endParaRPr>
          </a:p>
          <a:p>
            <a:pPr marL="177840" indent="-177840">
              <a:spcBef>
                <a:spcPts val="2999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76d0"/>
                </a:solidFill>
                <a:latin typeface="Arial"/>
              </a:rPr>
              <a:t>Keep a “grants” folder and put in all unused ideas for future use.</a:t>
            </a:r>
            <a:endParaRPr b="0" lang="en-US" sz="2400" spc="-1" strike="noStrike">
              <a:solidFill>
                <a:srgbClr val="1976d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4440" y="914400"/>
            <a:ext cx="7924680" cy="5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Getting Ideas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55160" y="1981080"/>
            <a:ext cx="7085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>
              <a:spcBef>
                <a:spcPts val="3501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Talk to the person next to you for one minute about places you could look for new ideas about programs or teaching techniques.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4440" y="914400"/>
            <a:ext cx="7924680" cy="5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Getting Started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55160" y="1981080"/>
            <a:ext cx="7085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>
              <a:lnSpc>
                <a:spcPct val="90000"/>
              </a:lnSpc>
              <a:spcBef>
                <a:spcPts val="2999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76d0"/>
                </a:solidFill>
                <a:latin typeface="Arial"/>
              </a:rPr>
              <a:t>Make an idea file</a:t>
            </a:r>
            <a:endParaRPr b="0" lang="en-US" sz="2400" spc="-1" strike="noStrike">
              <a:solidFill>
                <a:srgbClr val="1976d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2999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76d0"/>
                </a:solidFill>
                <a:latin typeface="Arial"/>
              </a:rPr>
              <a:t>Clip articles or download from Phi Delta Kappa, ASCD, Education Week, The Reading Teacher, other education journals. </a:t>
            </a:r>
            <a:endParaRPr b="0" lang="en-US" sz="2400" spc="-1" strike="noStrike">
              <a:solidFill>
                <a:srgbClr val="1976d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2999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76d0"/>
                </a:solidFill>
                <a:latin typeface="Arial"/>
              </a:rPr>
              <a:t>Clip articles from newspapers and/or scan the web</a:t>
            </a:r>
            <a:endParaRPr b="0" lang="en-US" sz="2400" spc="-1" strike="noStrike">
              <a:solidFill>
                <a:srgbClr val="1976d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2999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76d0"/>
                </a:solidFill>
                <a:latin typeface="Arial"/>
              </a:rPr>
              <a:t>Look at conference programs/attend free webinars</a:t>
            </a:r>
            <a:endParaRPr b="0" lang="en-US" sz="2400" spc="-1" strike="noStrike">
              <a:solidFill>
                <a:srgbClr val="1976d0"/>
              </a:solidFill>
              <a:latin typeface="Arial"/>
            </a:endParaRPr>
          </a:p>
          <a:p>
            <a:pPr marL="177840" indent="0">
              <a:lnSpc>
                <a:spcPct val="90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76d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4440" y="914400"/>
            <a:ext cx="7924680" cy="5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Getting Started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55160" y="1981080"/>
            <a:ext cx="7085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>
              <a:spcBef>
                <a:spcPts val="2999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76d0"/>
                </a:solidFill>
                <a:latin typeface="Arial"/>
              </a:rPr>
              <a:t>Read </a:t>
            </a:r>
            <a:r>
              <a:rPr b="1" lang="en-US" sz="2400" spc="-1" strike="noStrike">
                <a:solidFill>
                  <a:srgbClr val="1976d0"/>
                </a:solidFill>
                <a:latin typeface="Arial"/>
              </a:rPr>
              <a:t>all</a:t>
            </a:r>
            <a:r>
              <a:rPr b="0" lang="en-US" sz="2400" spc="-1" strike="noStrike">
                <a:solidFill>
                  <a:srgbClr val="1976d0"/>
                </a:solidFill>
                <a:latin typeface="Arial"/>
              </a:rPr>
              <a:t> of the grant and pre application packet if one exists.</a:t>
            </a:r>
            <a:endParaRPr b="0" lang="en-US" sz="2400" spc="-1" strike="noStrike">
              <a:solidFill>
                <a:srgbClr val="1976d0"/>
              </a:solidFill>
              <a:latin typeface="Arial"/>
            </a:endParaRPr>
          </a:p>
          <a:p>
            <a:pPr marL="177840" indent="-177840">
              <a:spcBef>
                <a:spcPts val="2999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76d0"/>
                </a:solidFill>
                <a:latin typeface="Arial"/>
              </a:rPr>
              <a:t>Highlight all important parts of the grant and tab.</a:t>
            </a:r>
            <a:endParaRPr b="0" lang="en-US" sz="2400" spc="-1" strike="noStrike">
              <a:solidFill>
                <a:srgbClr val="1976d0"/>
              </a:solidFill>
              <a:latin typeface="Arial"/>
            </a:endParaRPr>
          </a:p>
          <a:p>
            <a:pPr lvl="1" marL="571680" indent="-228600">
              <a:spcBef>
                <a:spcPts val="2999"/>
              </a:spcBef>
              <a:buClr>
                <a:srgbClr val="1f52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12d0"/>
                </a:solidFill>
                <a:latin typeface="Arial Unicode MS"/>
              </a:rPr>
              <a:t>Highlight all money parts in </a:t>
            </a:r>
            <a:r>
              <a:rPr b="1" lang="en-US" sz="2400" spc="-1" strike="noStrike">
                <a:solidFill>
                  <a:srgbClr val="4fff70"/>
                </a:solidFill>
                <a:latin typeface="Arial Unicode MS"/>
              </a:rPr>
              <a:t>green, </a:t>
            </a:r>
            <a:r>
              <a:rPr b="0" lang="en-US" sz="2400" spc="-1" strike="noStrike">
                <a:solidFill>
                  <a:srgbClr val="1912d0"/>
                </a:solidFill>
                <a:latin typeface="Arial Unicode MS"/>
              </a:rPr>
              <a:t>signatures in </a:t>
            </a:r>
            <a:r>
              <a:rPr b="1" lang="en-US" sz="2400" spc="-1" strike="noStrike">
                <a:solidFill>
                  <a:srgbClr val="1912d0"/>
                </a:solidFill>
                <a:latin typeface="Arial Unicode MS"/>
              </a:rPr>
              <a:t>blue</a:t>
            </a:r>
            <a:endParaRPr b="0" lang="en-US" sz="2400" spc="-1" strike="noStrike">
              <a:solidFill>
                <a:srgbClr val="1976d0"/>
              </a:solidFill>
              <a:latin typeface="Arial Unicode MS"/>
            </a:endParaRPr>
          </a:p>
          <a:p>
            <a:pPr lvl="1" marL="571680" indent="-228600">
              <a:spcBef>
                <a:spcPts val="2999"/>
              </a:spcBef>
              <a:buClr>
                <a:srgbClr val="1f52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12d0"/>
                </a:solidFill>
                <a:latin typeface="Arial Unicode MS"/>
              </a:rPr>
              <a:t>Highlight all non-negotiable </a:t>
            </a:r>
            <a:r>
              <a:rPr b="0" lang="en-US" sz="2400" spc="-1" strike="noStrike">
                <a:solidFill>
                  <a:srgbClr val="d01a52"/>
                </a:solidFill>
                <a:latin typeface="Arial Unicode MS"/>
              </a:rPr>
              <a:t>red, </a:t>
            </a:r>
            <a:r>
              <a:rPr b="0" lang="en-US" sz="2400" spc="-1" strike="noStrike">
                <a:solidFill>
                  <a:srgbClr val="1912d0"/>
                </a:solidFill>
                <a:latin typeface="Arial Unicode MS"/>
              </a:rPr>
              <a:t>program parts in </a:t>
            </a:r>
            <a:r>
              <a:rPr b="1" lang="en-US" sz="2400" spc="-1" strike="noStrike">
                <a:solidFill>
                  <a:srgbClr val="ffcc00"/>
                </a:solidFill>
                <a:latin typeface="Arial Unicode MS"/>
              </a:rPr>
              <a:t>yellow</a:t>
            </a:r>
            <a:endParaRPr b="0" lang="en-US" sz="2400" spc="-1" strike="noStrike">
              <a:solidFill>
                <a:srgbClr val="1976d0"/>
              </a:solidFill>
              <a:latin typeface="Arial Unicode MS"/>
            </a:endParaRPr>
          </a:p>
          <a:p>
            <a:pPr marL="177840"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76d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4440" y="914400"/>
            <a:ext cx="7924680" cy="5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Getting Started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55160" y="1981080"/>
            <a:ext cx="7085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170640" indent="-170640">
              <a:lnSpc>
                <a:spcPct val="90000"/>
              </a:lnSpc>
              <a:spcBef>
                <a:spcPts val="3501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Gather data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  <a:p>
            <a:pPr lvl="1" marL="548640" indent="-219240">
              <a:lnSpc>
                <a:spcPct val="90000"/>
              </a:lnSpc>
              <a:spcBef>
                <a:spcPts val="3501"/>
              </a:spcBef>
              <a:buClr>
                <a:srgbClr val="1f52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 Unicode MS"/>
              </a:rPr>
              <a:t>Know where demographic data is kept</a:t>
            </a:r>
            <a:endParaRPr b="0" lang="en-US" sz="2800" spc="-1" strike="noStrike">
              <a:solidFill>
                <a:srgbClr val="1976d0"/>
              </a:solidFill>
              <a:latin typeface="Arial Unicode MS"/>
            </a:endParaRPr>
          </a:p>
          <a:p>
            <a:pPr lvl="1" marL="548640" indent="-219240">
              <a:lnSpc>
                <a:spcPct val="90000"/>
              </a:lnSpc>
              <a:spcBef>
                <a:spcPts val="3501"/>
              </a:spcBef>
              <a:buClr>
                <a:srgbClr val="1f52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 Unicode MS"/>
              </a:rPr>
              <a:t>Find test scores and analyze data</a:t>
            </a:r>
            <a:endParaRPr b="0" lang="en-US" sz="2800" spc="-1" strike="noStrike">
              <a:solidFill>
                <a:srgbClr val="1976d0"/>
              </a:solidFill>
              <a:latin typeface="Arial Unicode MS"/>
            </a:endParaRPr>
          </a:p>
          <a:p>
            <a:pPr lvl="1" marL="548640" indent="-219240">
              <a:lnSpc>
                <a:spcPct val="90000"/>
              </a:lnSpc>
              <a:spcBef>
                <a:spcPts val="3501"/>
              </a:spcBef>
              <a:buClr>
                <a:srgbClr val="1f52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 Unicode MS"/>
              </a:rPr>
              <a:t>Determine if surveys will be needed to supplement data</a:t>
            </a:r>
            <a:endParaRPr b="0" lang="en-US" sz="2800" spc="-1" strike="noStrike">
              <a:solidFill>
                <a:srgbClr val="1976d0"/>
              </a:solidFill>
              <a:latin typeface="Arial Unicode MS"/>
            </a:endParaRPr>
          </a:p>
          <a:p>
            <a:pPr lvl="1" marL="548640" indent="-219240">
              <a:lnSpc>
                <a:spcPct val="90000"/>
              </a:lnSpc>
              <a:spcBef>
                <a:spcPts val="3501"/>
              </a:spcBef>
              <a:buClr>
                <a:srgbClr val="1f52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 Unicode MS"/>
              </a:rPr>
              <a:t>Put data in a file for easy access</a:t>
            </a:r>
            <a:endParaRPr b="0" lang="en-US" sz="2800" spc="-1" strike="noStrike">
              <a:solidFill>
                <a:srgbClr val="1976d0"/>
              </a:solidFill>
              <a:latin typeface="Arial Unicode MS"/>
            </a:endParaRPr>
          </a:p>
          <a:p>
            <a:pPr lvl="1" marL="548640" indent="0">
              <a:lnSpc>
                <a:spcPct val="90000"/>
              </a:lnSpc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76d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4440" y="914400"/>
            <a:ext cx="7924680" cy="5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Getting Started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55160" y="1981080"/>
            <a:ext cx="7085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>
              <a:spcBef>
                <a:spcPts val="3501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If the grant mentions research, read the research, and note terms or language. 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  <a:p>
            <a:pPr marL="177840" indent="-177840">
              <a:spcBef>
                <a:spcPts val="3501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Note if signatures, letters, sign offs  are needed before the application is filed.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  <a:p>
            <a:pPr marL="177840"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  <a:p>
            <a:pPr marL="177840"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4440" y="914400"/>
            <a:ext cx="7924680" cy="5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Getting Started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55160" y="1981080"/>
            <a:ext cx="7085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  <a:p>
            <a:pPr marL="177840"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  <a:p>
            <a:pPr marL="177840" indent="0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                 </a:t>
            </a:r>
            <a:r>
              <a:rPr b="0" lang="en-US" sz="4000" spc="-1" strike="noStrike">
                <a:solidFill>
                  <a:srgbClr val="1976d0"/>
                </a:solidFill>
                <a:latin typeface="Arial"/>
              </a:rPr>
              <a:t>Proof</a:t>
            </a:r>
            <a:endParaRPr b="0" lang="en-US" sz="4000" spc="-1" strike="noStrike">
              <a:solidFill>
                <a:srgbClr val="1976d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4440" y="914400"/>
            <a:ext cx="7924680" cy="5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Getting Started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55160" y="1981080"/>
            <a:ext cx="7085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  <a:p>
            <a:pPr marL="177840" indent="0">
              <a:spcBef>
                <a:spcPts val="6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                    </a:t>
            </a:r>
            <a:r>
              <a:rPr b="0" lang="en-US" sz="4800" spc="-1" strike="noStrike">
                <a:solidFill>
                  <a:srgbClr val="1976d0"/>
                </a:solidFill>
                <a:latin typeface="Arial"/>
              </a:rPr>
              <a:t>People</a:t>
            </a:r>
            <a:endParaRPr b="0" lang="en-US" sz="4800" spc="-1" strike="noStrike">
              <a:solidFill>
                <a:srgbClr val="1976d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4440" y="914400"/>
            <a:ext cx="7924680" cy="5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Getting Started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55160" y="1981080"/>
            <a:ext cx="7085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  <a:p>
            <a:pPr marL="177840"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  <a:p>
            <a:pPr marL="177840" indent="0">
              <a:spcBef>
                <a:spcPts val="4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                </a:t>
            </a:r>
            <a:r>
              <a:rPr b="0" lang="en-US" sz="3600" spc="-1" strike="noStrike">
                <a:solidFill>
                  <a:srgbClr val="1976d0"/>
                </a:solidFill>
                <a:latin typeface="Arial"/>
              </a:rPr>
              <a:t>Timelines</a:t>
            </a:r>
            <a:endParaRPr b="0" lang="en-US" sz="3600" spc="-1" strike="noStrike">
              <a:solidFill>
                <a:srgbClr val="1976d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4440" y="914400"/>
            <a:ext cx="7924680" cy="5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What is a Grant?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55160" y="1981080"/>
            <a:ext cx="7085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>
              <a:spcBef>
                <a:spcPts val="3501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A grant is an award of money that allows you to fulfill a project or plan.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4440" y="914400"/>
            <a:ext cx="7924680" cy="5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Getting Started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55160" y="1981080"/>
            <a:ext cx="7085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  <a:p>
            <a:pPr marL="177840"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  <a:p>
            <a:pPr marL="177840" indent="0">
              <a:spcBef>
                <a:spcPts val="4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                   </a:t>
            </a:r>
            <a:r>
              <a:rPr b="0" lang="en-US" sz="3600" spc="-1" strike="noStrike">
                <a:solidFill>
                  <a:srgbClr val="1976d0"/>
                </a:solidFill>
                <a:latin typeface="Arial"/>
              </a:rPr>
              <a:t>Committees</a:t>
            </a:r>
            <a:endParaRPr b="0" lang="en-US" sz="3600" spc="-1" strike="noStrike">
              <a:solidFill>
                <a:srgbClr val="1976d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4440" y="914400"/>
            <a:ext cx="7924680" cy="5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Getting Started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55160" y="1981080"/>
            <a:ext cx="7085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976d0"/>
              </a:solidFill>
              <a:latin typeface="Arial"/>
            </a:endParaRPr>
          </a:p>
          <a:p>
            <a:pPr marL="177840" indent="0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976d0"/>
                </a:solidFill>
                <a:latin typeface="Arial"/>
              </a:rPr>
              <a:t>            </a:t>
            </a:r>
            <a:r>
              <a:rPr b="0" lang="en-US" sz="4000" spc="-1" strike="noStrike">
                <a:solidFill>
                  <a:srgbClr val="1976d0"/>
                </a:solidFill>
                <a:latin typeface="Arial"/>
              </a:rPr>
              <a:t>Rubrics</a:t>
            </a:r>
            <a:endParaRPr b="0" lang="en-US" sz="4000" spc="-1" strike="noStrike">
              <a:solidFill>
                <a:srgbClr val="1976d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4440" y="914400"/>
            <a:ext cx="7924680" cy="5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Getting Started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55160" y="1981080"/>
            <a:ext cx="7085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  <a:p>
            <a:pPr marL="177840" indent="0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976d0"/>
                </a:solidFill>
                <a:latin typeface="Arial"/>
              </a:rPr>
              <a:t>             </a:t>
            </a:r>
            <a:r>
              <a:rPr b="0" lang="en-US" sz="4000" spc="-1" strike="noStrike">
                <a:solidFill>
                  <a:srgbClr val="1976d0"/>
                </a:solidFill>
                <a:latin typeface="Arial"/>
              </a:rPr>
              <a:t>Abstract</a:t>
            </a:r>
            <a:endParaRPr b="0" lang="en-US" sz="4000" spc="-1" strike="noStrike">
              <a:solidFill>
                <a:srgbClr val="1976d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4440" y="914400"/>
            <a:ext cx="7924680" cy="5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Getting Started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55160" y="1981080"/>
            <a:ext cx="7085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0"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  <a:p>
            <a:pPr marL="177840"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  <a:p>
            <a:pPr marL="177840" indent="0">
              <a:spcBef>
                <a:spcPts val="5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                         </a:t>
            </a:r>
            <a:r>
              <a:rPr b="0" lang="en-US" sz="4400" spc="-1" strike="noStrike">
                <a:solidFill>
                  <a:srgbClr val="1976d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1976d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4440" y="914400"/>
            <a:ext cx="7924680" cy="5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Getting Started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55160" y="1981080"/>
            <a:ext cx="7085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0"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  <a:p>
            <a:pPr marL="177840" indent="0"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  <a:p>
            <a:pPr marL="177840" indent="0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          </a:t>
            </a:r>
            <a:r>
              <a:rPr b="0" lang="en-US" sz="4000" spc="-1" strike="noStrike">
                <a:solidFill>
                  <a:srgbClr val="1976d0"/>
                </a:solidFill>
                <a:latin typeface="Arial"/>
              </a:rPr>
              <a:t>Correlations</a:t>
            </a:r>
            <a:endParaRPr b="0" lang="en-US" sz="4000" spc="-1" strike="noStrike">
              <a:solidFill>
                <a:srgbClr val="1976d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4440" y="914400"/>
            <a:ext cx="7924680" cy="5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Parts of the Grant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55160" y="1981080"/>
            <a:ext cx="7085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>
              <a:spcBef>
                <a:spcPts val="3501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Letter of Intent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  <a:p>
            <a:pPr marL="177840" indent="-177840">
              <a:spcBef>
                <a:spcPts val="3501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Letter of Inquiry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  <a:p>
            <a:pPr marL="177840" indent="-177840">
              <a:spcBef>
                <a:spcPts val="3501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Need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  <a:p>
            <a:pPr marL="177840" indent="-177840">
              <a:spcBef>
                <a:spcPts val="3501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Goals/Objectives/Outcomes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  <a:p>
            <a:pPr marL="177840" indent="-177840">
              <a:spcBef>
                <a:spcPts val="3501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Program/Project/Plan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4440" y="914400"/>
            <a:ext cx="7924680" cy="5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Parts of the Grant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055160" y="1981080"/>
            <a:ext cx="7085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>
              <a:spcBef>
                <a:spcPts val="3501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Project Activities/Methodology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  <a:p>
            <a:pPr marL="177840" indent="-177840">
              <a:spcBef>
                <a:spcPts val="3501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Evaluation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  <a:p>
            <a:pPr marL="177840" indent="-177840">
              <a:spcBef>
                <a:spcPts val="3501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Abstract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  <a:p>
            <a:pPr marL="177840" indent="-177840">
              <a:spcBef>
                <a:spcPts val="3501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Cover Letter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  <a:p>
            <a:pPr marL="177840" indent="-177840">
              <a:spcBef>
                <a:spcPts val="3501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Title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4440" y="914400"/>
            <a:ext cx="7924680" cy="5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Parts of the Grant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55160" y="1981080"/>
            <a:ext cx="7085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>
              <a:spcBef>
                <a:spcPts val="3501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Budget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  <a:p>
            <a:pPr marL="177840" indent="-177840">
              <a:spcBef>
                <a:spcPts val="3501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Credentials/Job Descriptions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  <a:p>
            <a:pPr marL="177840" indent="-177840">
              <a:spcBef>
                <a:spcPts val="3501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Appendix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  <a:p>
            <a:pPr marL="177840" indent="-177840">
              <a:spcBef>
                <a:spcPts val="3501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RFP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4440" y="914400"/>
            <a:ext cx="7924680" cy="5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The Letter of Intent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055160" y="1981080"/>
            <a:ext cx="7085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>
              <a:spcBef>
                <a:spcPts val="3501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Many grants require a “letter of intent” before the district submits the grant. 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  <a:p>
            <a:pPr marL="177840" indent="-177840">
              <a:spcBef>
                <a:spcPts val="3501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The letter of intent lets the agency know how many districts are planning to submit the grant. 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  <a:p>
            <a:pPr marL="177840" indent="-177840">
              <a:spcBef>
                <a:spcPts val="3501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The letter of intent states that the district intends to apply for the grant. 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4440" y="914400"/>
            <a:ext cx="7924680" cy="5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The Letter of Inquiry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55160" y="1981080"/>
            <a:ext cx="7085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>
              <a:spcBef>
                <a:spcPts val="3501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Many foundations request a letter of inquiry that helps determine if they are interested in your project before accepting the full proposal. 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  <a:p>
            <a:pPr marL="177840" indent="-177840">
              <a:spcBef>
                <a:spcPts val="3501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Letters of inquiry should be brief.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4440" y="914400"/>
            <a:ext cx="7924680" cy="5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What Are the Types of Grants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55160" y="1981080"/>
            <a:ext cx="7085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>
              <a:spcBef>
                <a:spcPts val="3501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976d0"/>
                </a:solidFill>
                <a:latin typeface="Arial"/>
              </a:rPr>
              <a:t>Entitlement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  <a:p>
            <a:pPr marL="177840" indent="-177840">
              <a:spcBef>
                <a:spcPts val="3501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976d0"/>
                </a:solidFill>
                <a:latin typeface="Arial"/>
              </a:rPr>
              <a:t>Competitive- federal, state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  <a:p>
            <a:pPr marL="177840" indent="-177840">
              <a:spcBef>
                <a:spcPts val="3501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976d0"/>
                </a:solidFill>
                <a:latin typeface="Arial"/>
              </a:rPr>
              <a:t>Foundation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4440" y="914400"/>
            <a:ext cx="7924680" cy="5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Grants Begin With Need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55160" y="1981080"/>
            <a:ext cx="7085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>
              <a:spcBef>
                <a:spcPts val="2999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76d0"/>
                </a:solidFill>
                <a:latin typeface="Arial"/>
              </a:rPr>
              <a:t>The need section tells your story.</a:t>
            </a:r>
            <a:endParaRPr b="0" lang="en-US" sz="2400" spc="-1" strike="noStrike">
              <a:solidFill>
                <a:srgbClr val="1976d0"/>
              </a:solidFill>
              <a:latin typeface="Arial"/>
            </a:endParaRPr>
          </a:p>
          <a:p>
            <a:pPr marL="177840" indent="-177840">
              <a:spcBef>
                <a:spcPts val="2999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76d0"/>
                </a:solidFill>
                <a:latin typeface="Arial"/>
              </a:rPr>
              <a:t>The need section tells </a:t>
            </a:r>
            <a:r>
              <a:rPr b="1" lang="en-US" sz="2400" spc="-1" strike="noStrike">
                <a:solidFill>
                  <a:srgbClr val="1976d0"/>
                </a:solidFill>
                <a:latin typeface="Arial"/>
              </a:rPr>
              <a:t>why</a:t>
            </a:r>
            <a:r>
              <a:rPr b="0" lang="en-US" sz="2400" spc="-1" strike="noStrike">
                <a:solidFill>
                  <a:srgbClr val="1976d0"/>
                </a:solidFill>
                <a:latin typeface="Arial"/>
              </a:rPr>
              <a:t> you are seeking the grant.</a:t>
            </a:r>
            <a:endParaRPr b="0" lang="en-US" sz="2400" spc="-1" strike="noStrike">
              <a:solidFill>
                <a:srgbClr val="1976d0"/>
              </a:solidFill>
              <a:latin typeface="Arial"/>
            </a:endParaRPr>
          </a:p>
          <a:p>
            <a:pPr marL="177840" indent="-177840">
              <a:spcBef>
                <a:spcPts val="2999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76d0"/>
                </a:solidFill>
                <a:latin typeface="Arial"/>
              </a:rPr>
              <a:t>The need section proves </a:t>
            </a:r>
            <a:r>
              <a:rPr b="1" lang="en-US" sz="2400" spc="-1" strike="noStrike">
                <a:solidFill>
                  <a:srgbClr val="1976d0"/>
                </a:solidFill>
                <a:latin typeface="Arial"/>
              </a:rPr>
              <a:t>why</a:t>
            </a:r>
            <a:r>
              <a:rPr b="0" lang="en-US" sz="2400" spc="-1" strike="noStrike">
                <a:solidFill>
                  <a:srgbClr val="1976d0"/>
                </a:solidFill>
                <a:latin typeface="Arial"/>
              </a:rPr>
              <a:t> you qualify for the grant.</a:t>
            </a:r>
            <a:endParaRPr b="0" lang="en-US" sz="2400" spc="-1" strike="noStrike">
              <a:solidFill>
                <a:srgbClr val="1976d0"/>
              </a:solidFill>
              <a:latin typeface="Arial"/>
            </a:endParaRPr>
          </a:p>
          <a:p>
            <a:pPr marL="177840" indent="-177840">
              <a:spcBef>
                <a:spcPts val="2999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76d0"/>
                </a:solidFill>
                <a:latin typeface="Arial"/>
              </a:rPr>
              <a:t>Be “needy” but not dramatic.</a:t>
            </a:r>
            <a:endParaRPr b="0" lang="en-US" sz="2400" spc="-1" strike="noStrike">
              <a:solidFill>
                <a:srgbClr val="1976d0"/>
              </a:solidFill>
              <a:latin typeface="Arial"/>
            </a:endParaRPr>
          </a:p>
          <a:p>
            <a:pPr marL="177840" indent="-177840">
              <a:spcBef>
                <a:spcPts val="2999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76d0"/>
                </a:solidFill>
                <a:latin typeface="Arial"/>
              </a:rPr>
              <a:t>Be specific to your district or school.</a:t>
            </a:r>
            <a:endParaRPr b="0" lang="en-US" sz="2400" spc="-1" strike="noStrike">
              <a:solidFill>
                <a:srgbClr val="1976d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4440" y="914400"/>
            <a:ext cx="7924680" cy="5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Grants Begin With Need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55160" y="1981080"/>
            <a:ext cx="7085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>
              <a:spcBef>
                <a:spcPts val="3501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Some grants target specific needs such as poverty, second language, geographic area, age of population to be served. 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  <a:p>
            <a:pPr marL="177840" indent="-177840">
              <a:spcBef>
                <a:spcPts val="3501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Make sure your grant fits the needs and includes all necessary data. 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4440" y="914400"/>
            <a:ext cx="7924680" cy="5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Grants Begin with Need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055160" y="1981080"/>
            <a:ext cx="7085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0"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  <a:p>
            <a:pPr marL="177840" indent="0"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Use charts, tables and  graphs whenever possible.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4440" y="914400"/>
            <a:ext cx="7924680" cy="5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Grants Begin With Need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55160" y="1981080"/>
            <a:ext cx="7085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>
              <a:spcBef>
                <a:spcPts val="3501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If you have no hard data, maybe that is the problem. 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  <a:p>
            <a:pPr marL="177840" indent="-177840">
              <a:spcBef>
                <a:spcPts val="3501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Surveys, observations, letters can be a part of the need statement.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  <a:p>
            <a:pPr marL="177840" indent="-177840">
              <a:spcBef>
                <a:spcPts val="3501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Part of the need could be the lack of a data collection  and tracking system.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4440" y="914400"/>
            <a:ext cx="7924680" cy="5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Grants Begin With Need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055160" y="1981080"/>
            <a:ext cx="7085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0"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  <a:p>
            <a:pPr marL="177840" indent="0"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  <a:p>
            <a:pPr marL="177840" indent="0"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          </a:t>
            </a: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In the words of Abraham Lincoln…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4440" y="914400"/>
            <a:ext cx="7924680" cy="5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Grants Begin With Need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55160" y="1981080"/>
            <a:ext cx="7085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>
              <a:spcBef>
                <a:spcPts val="3501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Need statements are usually about 1/5 of the total points of the grant.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  <a:p>
            <a:pPr marL="177840" indent="-177840">
              <a:spcBef>
                <a:spcPts val="3501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A general description of the district may precede the hard data so the reviewer can have a mental picture of the area. 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4440" y="914400"/>
            <a:ext cx="7924680" cy="5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Needs Assessment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55160" y="1981080"/>
            <a:ext cx="7085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76d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1976d0"/>
                </a:solidFill>
                <a:latin typeface="Arial"/>
              </a:rPr>
              <a:t>Contents</a:t>
            </a:r>
            <a:endParaRPr b="0" lang="en-US" sz="2400" spc="-1" strike="noStrike">
              <a:solidFill>
                <a:srgbClr val="1976d0"/>
              </a:solidFill>
              <a:latin typeface="Arial"/>
            </a:endParaRPr>
          </a:p>
          <a:p>
            <a:pPr marL="177840" indent="-177840">
              <a:spcBef>
                <a:spcPts val="2999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76d0"/>
                </a:solidFill>
                <a:latin typeface="Arial"/>
              </a:rPr>
              <a:t>States the problem:</a:t>
            </a:r>
            <a:br>
              <a:rPr sz="2400"/>
            </a:br>
            <a:r>
              <a:rPr b="1" lang="en-US" sz="2400" spc="-1" strike="noStrike">
                <a:solidFill>
                  <a:srgbClr val="1976d0"/>
                </a:solidFill>
                <a:latin typeface="Arial"/>
              </a:rPr>
              <a:t>Data—children and teachers</a:t>
            </a:r>
            <a:endParaRPr b="0" lang="en-US" sz="2400" spc="-1" strike="noStrike">
              <a:solidFill>
                <a:srgbClr val="1976d0"/>
              </a:solidFill>
              <a:latin typeface="Arial"/>
            </a:endParaRPr>
          </a:p>
          <a:p>
            <a:pPr marL="177840" indent="-177840">
              <a:spcBef>
                <a:spcPts val="2999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76d0"/>
                </a:solidFill>
                <a:latin typeface="Arial"/>
              </a:rPr>
              <a:t>Explains educational problem</a:t>
            </a:r>
            <a:endParaRPr b="0" lang="en-US" sz="2400" spc="-1" strike="noStrike">
              <a:solidFill>
                <a:srgbClr val="1976d0"/>
              </a:solidFill>
              <a:latin typeface="Arial"/>
            </a:endParaRPr>
          </a:p>
          <a:p>
            <a:pPr marL="177840" indent="-177840">
              <a:spcBef>
                <a:spcPts val="2999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76d0"/>
                </a:solidFill>
                <a:latin typeface="Arial"/>
              </a:rPr>
              <a:t>Offers backup: current research, quotes, statistics, studies</a:t>
            </a:r>
            <a:endParaRPr b="0" lang="en-US" sz="2400" spc="-1" strike="noStrike">
              <a:solidFill>
                <a:srgbClr val="1976d0"/>
              </a:solidFill>
              <a:latin typeface="Arial"/>
            </a:endParaRPr>
          </a:p>
          <a:p>
            <a:pPr marL="177840" indent="-177840">
              <a:spcBef>
                <a:spcPts val="2999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76d0"/>
                </a:solidFill>
                <a:latin typeface="Arial"/>
              </a:rPr>
              <a:t>Validity and reliability</a:t>
            </a:r>
            <a:endParaRPr b="0" lang="en-US" sz="2400" spc="-1" strike="noStrike">
              <a:solidFill>
                <a:srgbClr val="1976d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4440" y="914400"/>
            <a:ext cx="7924680" cy="5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The Needs Section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55160" y="1981080"/>
            <a:ext cx="7085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76d0"/>
                </a:solidFill>
                <a:latin typeface="Arial"/>
              </a:rPr>
              <a:t>Qualities</a:t>
            </a:r>
            <a:endParaRPr b="0" lang="en-US" sz="2400" spc="-1" strike="noStrike">
              <a:solidFill>
                <a:srgbClr val="1976d0"/>
              </a:solidFill>
              <a:latin typeface="Arial"/>
            </a:endParaRPr>
          </a:p>
          <a:p>
            <a:pPr marL="177840" indent="-177840">
              <a:spcBef>
                <a:spcPts val="2999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76d0"/>
                </a:solidFill>
                <a:latin typeface="Arial"/>
              </a:rPr>
              <a:t>Starts with general information and becomes specific</a:t>
            </a:r>
            <a:endParaRPr b="0" lang="en-US" sz="2400" spc="-1" strike="noStrike">
              <a:solidFill>
                <a:srgbClr val="1976d0"/>
              </a:solidFill>
              <a:latin typeface="Arial"/>
            </a:endParaRPr>
          </a:p>
          <a:p>
            <a:pPr marL="177840" indent="-177840">
              <a:spcBef>
                <a:spcPts val="2999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76d0"/>
                </a:solidFill>
                <a:latin typeface="Arial"/>
              </a:rPr>
              <a:t>Provides background</a:t>
            </a:r>
            <a:endParaRPr b="0" lang="en-US" sz="2400" spc="-1" strike="noStrike">
              <a:solidFill>
                <a:srgbClr val="1976d0"/>
              </a:solidFill>
              <a:latin typeface="Arial"/>
            </a:endParaRPr>
          </a:p>
          <a:p>
            <a:pPr marL="177840" indent="-177840">
              <a:spcBef>
                <a:spcPts val="2999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76d0"/>
                </a:solidFill>
                <a:latin typeface="Arial"/>
              </a:rPr>
              <a:t>States what has and hasn’t been done to solve problem</a:t>
            </a:r>
            <a:endParaRPr b="0" lang="en-US" sz="2400" spc="-1" strike="noStrike">
              <a:solidFill>
                <a:srgbClr val="1976d0"/>
              </a:solidFill>
              <a:latin typeface="Arial"/>
            </a:endParaRPr>
          </a:p>
          <a:p>
            <a:pPr marL="177840" indent="-177840">
              <a:spcBef>
                <a:spcPts val="2999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76d0"/>
                </a:solidFill>
                <a:latin typeface="Arial"/>
              </a:rPr>
              <a:t>Uses charts, tables, or graphs for clarity</a:t>
            </a:r>
            <a:endParaRPr b="0" lang="en-US" sz="2400" spc="-1" strike="noStrike">
              <a:solidFill>
                <a:srgbClr val="1976d0"/>
              </a:solidFill>
              <a:latin typeface="Arial"/>
            </a:endParaRPr>
          </a:p>
          <a:p>
            <a:pPr marL="177840"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76d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4440" y="914400"/>
            <a:ext cx="7924680" cy="5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Goals/Objectives/Outcomes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055160" y="1981080"/>
            <a:ext cx="7085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>
              <a:lnSpc>
                <a:spcPct val="90000"/>
              </a:lnSpc>
              <a:spcBef>
                <a:spcPts val="3501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A goal is a broad statement. It contains long term intentions.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3501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Objectives are lists of specific outcomes.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3501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Objectives are outcomes that may be expected from the project.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3501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Objectives are concrete, realistic, measurable, obtainable and time bound. 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4440" y="914400"/>
            <a:ext cx="7924680" cy="5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Objectives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055160" y="1981080"/>
            <a:ext cx="7085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>
              <a:spcBef>
                <a:spcPts val="3501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Objectives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  <a:p>
            <a:pPr lvl="1" marL="571680" indent="-228600">
              <a:spcBef>
                <a:spcPts val="3501"/>
              </a:spcBef>
              <a:buClr>
                <a:srgbClr val="1f52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 Unicode MS"/>
              </a:rPr>
              <a:t>Students will…</a:t>
            </a:r>
            <a:endParaRPr b="0" lang="en-US" sz="2800" spc="-1" strike="noStrike">
              <a:solidFill>
                <a:srgbClr val="1976d0"/>
              </a:solidFill>
              <a:latin typeface="Arial Unicode MS"/>
            </a:endParaRPr>
          </a:p>
          <a:p>
            <a:pPr lvl="1" marL="571680" indent="-228600">
              <a:spcBef>
                <a:spcPts val="3501"/>
              </a:spcBef>
              <a:buClr>
                <a:srgbClr val="1f52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 Unicode MS"/>
              </a:rPr>
              <a:t>Teachers will..</a:t>
            </a:r>
            <a:endParaRPr b="0" lang="en-US" sz="2800" spc="-1" strike="noStrike">
              <a:solidFill>
                <a:srgbClr val="1976d0"/>
              </a:solidFill>
              <a:latin typeface="Arial Unicode MS"/>
            </a:endParaRPr>
          </a:p>
          <a:p>
            <a:pPr lvl="1" marL="571680" indent="-228600">
              <a:spcBef>
                <a:spcPts val="3501"/>
              </a:spcBef>
              <a:buClr>
                <a:srgbClr val="1f52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 Unicode MS"/>
              </a:rPr>
              <a:t>Teacher’s manuals and curriculum guides are often good sources of objectives</a:t>
            </a:r>
            <a:endParaRPr b="0" lang="en-US" sz="2800" spc="-1" strike="noStrike">
              <a:solidFill>
                <a:srgbClr val="1976d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4440" y="914400"/>
            <a:ext cx="7924680" cy="5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Grants.gov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55160" y="1981080"/>
            <a:ext cx="7085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>
              <a:spcBef>
                <a:spcPts val="3501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One of the best tools for working with federal grants is Grants.gov.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  <a:p>
            <a:pPr marL="177840" indent="-177840">
              <a:spcBef>
                <a:spcPts val="3501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Another tool that has a list of all grants is CDFA- Catalog of Domestic Assistance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  <a:p>
            <a:pPr lvl="1" marL="571680" indent="-228600">
              <a:spcBef>
                <a:spcPts val="2251"/>
              </a:spcBef>
              <a:buClr>
                <a:srgbClr val="1f52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976d0"/>
                </a:solidFill>
                <a:latin typeface="Arial Unicode MS"/>
              </a:rPr>
              <a:t>Lists all past and current Federal Grants</a:t>
            </a:r>
            <a:endParaRPr b="0" lang="en-US" sz="1800" spc="-1" strike="noStrike">
              <a:solidFill>
                <a:srgbClr val="1976d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4440" y="914400"/>
            <a:ext cx="7924680" cy="5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Outcome Statements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55160" y="1981080"/>
            <a:ext cx="7085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>
              <a:spcBef>
                <a:spcPts val="3501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These are also known as expectation statements.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  <a:p>
            <a:pPr marL="177840" indent="-177840">
              <a:spcBef>
                <a:spcPts val="3501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At the end of ________weeks students will?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  <a:p>
            <a:pPr marL="177840" indent="-177840">
              <a:spcBef>
                <a:spcPts val="3501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By using _________teachers will?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4440" y="914400"/>
            <a:ext cx="7924680" cy="5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Program Description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055160" y="1981080"/>
            <a:ext cx="7085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0"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  <a:p>
            <a:pPr marL="177840" indent="-177840">
              <a:spcBef>
                <a:spcPts val="3501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The Program Description must be clear and well organized.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  <a:p>
            <a:pPr marL="177840" indent="-177840">
              <a:spcBef>
                <a:spcPts val="3501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The Program Description answers: “who, what, where, when, why, how?”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0" y="1676520"/>
            <a:ext cx="9144000" cy="518148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4440" y="914400"/>
            <a:ext cx="7924680" cy="5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Project/Plan/Program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55160" y="1981080"/>
            <a:ext cx="7085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  <a:p>
            <a:pPr marL="177840"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  <a:p>
            <a:pPr marL="177840" indent="-177840">
              <a:spcBef>
                <a:spcPts val="3501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76d0"/>
                </a:solidFill>
                <a:latin typeface="Arial"/>
              </a:rPr>
              <a:t>The project/plan is the heart of the grant.</a:t>
            </a: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4440" y="914400"/>
            <a:ext cx="7924680" cy="5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STEM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055160" y="1981080"/>
            <a:ext cx="7085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>
              <a:spcBef>
                <a:spcPts val="3501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STEM – make sure you cover Science, Technology, Engineering ( career education) Math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  <a:p>
            <a:pPr marL="177840" indent="-177840">
              <a:spcBef>
                <a:spcPts val="3501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How can you integrate the elements 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  <a:p>
            <a:pPr marL="177840" indent="-177840">
              <a:spcBef>
                <a:spcPts val="3501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What is the project? 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  <a:p>
            <a:pPr marL="177840" indent="-177840">
              <a:spcBef>
                <a:spcPts val="3501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What is the plan?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04440" y="914400"/>
            <a:ext cx="7924680" cy="5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Project/Plan/Program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055160" y="1981080"/>
            <a:ext cx="7085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>
              <a:spcBef>
                <a:spcPts val="3501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How will goals be accomplished?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  <a:p>
            <a:pPr marL="177840" indent="-177840">
              <a:spcBef>
                <a:spcPts val="3501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What will students be doing?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  <a:p>
            <a:pPr marL="177840" indent="-177840">
              <a:spcBef>
                <a:spcPts val="3501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What will teachers be doing?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  <a:p>
            <a:pPr marL="177840" indent="-177840">
              <a:spcBef>
                <a:spcPts val="3501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What will community or parents be doing?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  <a:p>
            <a:pPr marL="177840"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4440" y="914400"/>
            <a:ext cx="7924680" cy="5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Project/Plan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055160" y="1981080"/>
            <a:ext cx="7085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>
              <a:spcBef>
                <a:spcPts val="3501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Timeline—month by month guide to how the project will be accomplished.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  <a:p>
            <a:pPr lvl="1" marL="571680" indent="-228600">
              <a:spcBef>
                <a:spcPts val="2500"/>
              </a:spcBef>
              <a:buClr>
                <a:srgbClr val="1f52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76d0"/>
                </a:solidFill>
                <a:latin typeface="Arial Unicode MS"/>
              </a:rPr>
              <a:t>Month1 conduct needs assessments</a:t>
            </a:r>
            <a:endParaRPr b="0" lang="en-US" sz="2000" spc="-1" strike="noStrike">
              <a:solidFill>
                <a:srgbClr val="1976d0"/>
              </a:solidFill>
              <a:latin typeface="Arial Unicode MS"/>
            </a:endParaRPr>
          </a:p>
          <a:p>
            <a:pPr lvl="1" marL="571680" indent="-228600">
              <a:spcBef>
                <a:spcPts val="2500"/>
              </a:spcBef>
              <a:buClr>
                <a:srgbClr val="1f52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76d0"/>
                </a:solidFill>
                <a:latin typeface="Arial Unicode MS"/>
              </a:rPr>
              <a:t>Month 1 order materials</a:t>
            </a:r>
            <a:endParaRPr b="0" lang="en-US" sz="2000" spc="-1" strike="noStrike">
              <a:solidFill>
                <a:srgbClr val="1976d0"/>
              </a:solidFill>
              <a:latin typeface="Arial Unicode MS"/>
            </a:endParaRPr>
          </a:p>
          <a:p>
            <a:pPr lvl="1" marL="571680" indent="-228600">
              <a:spcBef>
                <a:spcPts val="2500"/>
              </a:spcBef>
              <a:buClr>
                <a:srgbClr val="1f52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76d0"/>
                </a:solidFill>
                <a:latin typeface="Arial Unicode MS"/>
              </a:rPr>
              <a:t>Month 1 train new staff</a:t>
            </a:r>
            <a:endParaRPr b="0" lang="en-US" sz="2000" spc="-1" strike="noStrike">
              <a:solidFill>
                <a:srgbClr val="1976d0"/>
              </a:solidFill>
              <a:latin typeface="Arial Unicode MS"/>
            </a:endParaRPr>
          </a:p>
          <a:p>
            <a:pPr lvl="1" marL="571680" indent="-228600">
              <a:spcBef>
                <a:spcPts val="2500"/>
              </a:spcBef>
              <a:buClr>
                <a:srgbClr val="1f52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76d0"/>
                </a:solidFill>
                <a:latin typeface="Arial Unicode MS"/>
              </a:rPr>
              <a:t>Month 2 begin professional development</a:t>
            </a:r>
            <a:endParaRPr b="0" lang="en-US" sz="2000" spc="-1" strike="noStrike">
              <a:solidFill>
                <a:srgbClr val="1976d0"/>
              </a:solidFill>
              <a:latin typeface="Arial Unicode MS"/>
            </a:endParaRPr>
          </a:p>
          <a:p>
            <a:pPr lvl="1" marL="571680" indent="-228600">
              <a:spcBef>
                <a:spcPts val="2500"/>
              </a:spcBef>
              <a:buClr>
                <a:srgbClr val="1f52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76d0"/>
                </a:solidFill>
                <a:latin typeface="Arial Unicode MS"/>
              </a:rPr>
              <a:t>Month 3 begin classroom observations</a:t>
            </a:r>
            <a:endParaRPr b="0" lang="en-US" sz="2000" spc="-1" strike="noStrike">
              <a:solidFill>
                <a:srgbClr val="1976d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4440" y="914400"/>
            <a:ext cx="7924680" cy="5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Evaluation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055160" y="1981080"/>
            <a:ext cx="7085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>
              <a:spcBef>
                <a:spcPts val="3501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The evaluation examines the effectiveness of the project.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  <a:p>
            <a:pPr marL="177840" indent="-177840">
              <a:spcBef>
                <a:spcPts val="3501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The evaluation examines how well the project meets the need established in the grant. 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  <a:p>
            <a:pPr marL="177840" indent="-177840">
              <a:spcBef>
                <a:spcPts val="3501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The evaluation proves the project works.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4440" y="914400"/>
            <a:ext cx="7924680" cy="5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Future Funding/Sustainability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055160" y="1981080"/>
            <a:ext cx="34657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>
              <a:spcBef>
                <a:spcPts val="2999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76d0"/>
                </a:solidFill>
                <a:latin typeface="Arial"/>
              </a:rPr>
              <a:t>How program will be continued after grant?</a:t>
            </a:r>
            <a:endParaRPr b="0" lang="en-US" sz="2400" spc="-1" strike="noStrike">
              <a:solidFill>
                <a:srgbClr val="1976d0"/>
              </a:solidFill>
              <a:latin typeface="Arial"/>
            </a:endParaRPr>
          </a:p>
          <a:p>
            <a:pPr marL="177840" indent="-177840">
              <a:spcBef>
                <a:spcPts val="2999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76d0"/>
                </a:solidFill>
                <a:latin typeface="Arial"/>
              </a:rPr>
              <a:t>How will you search for additional funds?</a:t>
            </a:r>
            <a:endParaRPr b="0" lang="en-US" sz="2400" spc="-1" strike="noStrike">
              <a:solidFill>
                <a:srgbClr val="1976d0"/>
              </a:solidFill>
              <a:latin typeface="Arial"/>
            </a:endParaRPr>
          </a:p>
          <a:p>
            <a:pPr marL="177840" indent="-177840">
              <a:spcBef>
                <a:spcPts val="2999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76d0"/>
                </a:solidFill>
                <a:latin typeface="Arial"/>
              </a:rPr>
              <a:t>How could other non-grant schools be included?</a:t>
            </a:r>
            <a:endParaRPr b="0" lang="en-US" sz="2400" spc="-1" strike="noStrike">
              <a:solidFill>
                <a:srgbClr val="1976d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3160" y="1981080"/>
            <a:ext cx="3467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>
              <a:spcBef>
                <a:spcPts val="2999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76d0"/>
                </a:solidFill>
                <a:latin typeface="Arial"/>
              </a:rPr>
              <a:t>What are other ways of raising money.</a:t>
            </a:r>
            <a:endParaRPr b="0" lang="en-US" sz="2400" spc="-1" strike="noStrike">
              <a:solidFill>
                <a:srgbClr val="1976d0"/>
              </a:solidFill>
              <a:latin typeface="Arial"/>
            </a:endParaRPr>
          </a:p>
          <a:p>
            <a:pPr marL="177840" indent="-177840">
              <a:spcBef>
                <a:spcPts val="2999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76d0"/>
                </a:solidFill>
                <a:latin typeface="Arial"/>
              </a:rPr>
              <a:t>Creativity (how could you fund the program at a later date?)</a:t>
            </a:r>
            <a:endParaRPr b="0" lang="en-US" sz="2400" spc="-1" strike="noStrike">
              <a:solidFill>
                <a:srgbClr val="1976d0"/>
              </a:solidFill>
              <a:latin typeface="Arial"/>
            </a:endParaRPr>
          </a:p>
          <a:p>
            <a:pPr marL="177840" indent="-177840">
              <a:spcBef>
                <a:spcPts val="2999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76d0"/>
                </a:solidFill>
                <a:latin typeface="Arial"/>
              </a:rPr>
              <a:t>Awareness that “funder” may lead to other sources</a:t>
            </a:r>
            <a:endParaRPr b="0" lang="en-US" sz="2400" spc="-1" strike="noStrike">
              <a:solidFill>
                <a:srgbClr val="1976d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4440" y="914400"/>
            <a:ext cx="7924680" cy="5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Cover Letter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055160" y="1981080"/>
            <a:ext cx="7085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>
              <a:spcBef>
                <a:spcPts val="3501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Include a cover letter if one is required.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  <a:p>
            <a:pPr marL="177840" indent="-177840">
              <a:spcBef>
                <a:spcPts val="3501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Place a cover on the grant which gives the title and the name of the district. Don’t decorate the cover. 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  <a:p>
            <a:pPr marL="177840" indent="-177840">
              <a:spcBef>
                <a:spcPts val="3501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Include responsible people on the cover if needed.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  <a:p>
            <a:pPr marL="177840" indent="0"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4440" y="914400"/>
            <a:ext cx="7924680" cy="5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The Title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055160" y="1981080"/>
            <a:ext cx="7085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>
              <a:spcBef>
                <a:spcPts val="3501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The title should reflect the project intent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  <a:p>
            <a:pPr marL="177840" indent="-177840">
              <a:spcBef>
                <a:spcPts val="3501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Be succinct and not wordy.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  <a:p>
            <a:pPr marL="177840" indent="-177840">
              <a:spcBef>
                <a:spcPts val="3501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Be careful what you spell- C.R.E.E.P. (Cleveland Reading Effectiveness Evaluation Project)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4440" y="914400"/>
            <a:ext cx="7924680" cy="5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Grants.gov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55160" y="1981080"/>
            <a:ext cx="7085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>
              <a:spcBef>
                <a:spcPts val="3501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Find federal opportunities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  <a:p>
            <a:pPr marL="177840" indent="-177840">
              <a:spcBef>
                <a:spcPts val="3501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Get registered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  <a:p>
            <a:pPr marL="177840" indent="-177840">
              <a:spcBef>
                <a:spcPts val="3501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Review previous successful abstracts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  <a:p>
            <a:pPr marL="177840" indent="-177840">
              <a:spcBef>
                <a:spcPts val="3501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Review previous successful grants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4440" y="914400"/>
            <a:ext cx="7924680" cy="5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Budget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55160" y="1981080"/>
            <a:ext cx="7085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0"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  <a:p>
            <a:pPr marL="177840" indent="0"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  <a:p>
            <a:pPr marL="177840" indent="0"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Who, What, Where, When, How, Why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4440" y="914400"/>
            <a:ext cx="7924680" cy="5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Budget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55160" y="1981080"/>
            <a:ext cx="7085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>
              <a:spcBef>
                <a:spcPts val="2999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76d0"/>
                </a:solidFill>
                <a:latin typeface="Arial"/>
              </a:rPr>
              <a:t>Make a best guess for each area to be funded.</a:t>
            </a:r>
            <a:endParaRPr b="0" lang="en-US" sz="2400" spc="-1" strike="noStrike">
              <a:solidFill>
                <a:srgbClr val="1976d0"/>
              </a:solidFill>
              <a:latin typeface="Arial"/>
            </a:endParaRPr>
          </a:p>
          <a:p>
            <a:pPr marL="177840" indent="-177840">
              <a:spcBef>
                <a:spcPts val="2999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76d0"/>
                </a:solidFill>
                <a:latin typeface="Arial"/>
              </a:rPr>
              <a:t>No miscellaneous or vague categories. “Other” is not a budget category.</a:t>
            </a:r>
            <a:endParaRPr b="0" lang="en-US" sz="2400" spc="-1" strike="noStrike">
              <a:solidFill>
                <a:srgbClr val="1976d0"/>
              </a:solidFill>
              <a:latin typeface="Arial"/>
            </a:endParaRPr>
          </a:p>
          <a:p>
            <a:pPr marL="177840" indent="-177840">
              <a:spcBef>
                <a:spcPts val="2999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76d0"/>
                </a:solidFill>
                <a:latin typeface="Arial"/>
              </a:rPr>
              <a:t>In-kind contributions (rooms at school, parent help, school secretary help, donated time).</a:t>
            </a:r>
            <a:endParaRPr b="0" lang="en-US" sz="2400" spc="-1" strike="noStrike">
              <a:solidFill>
                <a:srgbClr val="1976d0"/>
              </a:solidFill>
              <a:latin typeface="Arial"/>
            </a:endParaRPr>
          </a:p>
          <a:p>
            <a:pPr marL="177840" indent="-177840">
              <a:spcBef>
                <a:spcPts val="2999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76d0"/>
                </a:solidFill>
                <a:latin typeface="Arial"/>
              </a:rPr>
              <a:t>Staff development provided at no charge from a publisher should be listed as “in kind.”</a:t>
            </a:r>
            <a:endParaRPr b="0" lang="en-US" sz="2400" spc="-1" strike="noStrike">
              <a:solidFill>
                <a:srgbClr val="1976d0"/>
              </a:solidFill>
              <a:latin typeface="Arial"/>
            </a:endParaRPr>
          </a:p>
          <a:p>
            <a:pPr marL="177840"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76d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4440" y="914400"/>
            <a:ext cx="7924680" cy="5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Budget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055160" y="1981080"/>
            <a:ext cx="7085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  <a:p>
            <a:pPr marL="177840"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  <a:p>
            <a:pPr marL="177840" indent="0"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Who controls the money?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4440" y="914400"/>
            <a:ext cx="7924680" cy="5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Budget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055160" y="1981080"/>
            <a:ext cx="7085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  <a:p>
            <a:pPr marL="177840"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  <a:p>
            <a:pPr marL="177840" indent="0"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976d0"/>
                </a:solidFill>
                <a:latin typeface="Arial"/>
              </a:rPr>
              <a:t>Keep a running record of all budget funds.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4440" y="914400"/>
            <a:ext cx="7924680" cy="5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Budget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055160" y="1981080"/>
            <a:ext cx="7085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  <a:p>
            <a:pPr marL="177840"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  <a:p>
            <a:pPr marL="177840" indent="0">
              <a:spcBef>
                <a:spcPts val="4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976d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1976d0"/>
                </a:solidFill>
                <a:latin typeface="Arial"/>
              </a:rPr>
              <a:t>Check all budget figures!</a:t>
            </a:r>
            <a:endParaRPr b="0" lang="en-US" sz="3200" spc="-1" strike="noStrike">
              <a:solidFill>
                <a:srgbClr val="1976d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4440" y="914400"/>
            <a:ext cx="7924680" cy="5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Budget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055160" y="1981080"/>
            <a:ext cx="7085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  <a:p>
            <a:pPr marL="177840"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  <a:p>
            <a:pPr marL="177840" indent="0">
              <a:spcBef>
                <a:spcPts val="6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           </a:t>
            </a:r>
            <a:r>
              <a:rPr b="0" lang="en-US" sz="4800" spc="-1" strike="noStrike">
                <a:solidFill>
                  <a:srgbClr val="1976d0"/>
                </a:solidFill>
                <a:latin typeface="Arial"/>
              </a:rPr>
              <a:t>Conferences</a:t>
            </a:r>
            <a:endParaRPr b="0" lang="en-US" sz="4800" spc="-1" strike="noStrike">
              <a:solidFill>
                <a:srgbClr val="1976d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4440" y="914400"/>
            <a:ext cx="7924680" cy="5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Budget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055160" y="1981080"/>
            <a:ext cx="7085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  <a:p>
            <a:pPr marL="177840" indent="-177840">
              <a:spcBef>
                <a:spcPts val="4000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76d0"/>
                </a:solidFill>
                <a:latin typeface="Arial"/>
              </a:rPr>
              <a:t>Deadlines</a:t>
            </a:r>
            <a:endParaRPr b="0" lang="en-US" sz="3200" spc="-1" strike="noStrike">
              <a:solidFill>
                <a:srgbClr val="1976d0"/>
              </a:solidFill>
              <a:latin typeface="Arial"/>
            </a:endParaRPr>
          </a:p>
          <a:p>
            <a:pPr marL="177840" indent="-177840">
              <a:spcBef>
                <a:spcPts val="4000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76d0"/>
                </a:solidFill>
                <a:latin typeface="Arial"/>
              </a:rPr>
              <a:t>Receipts</a:t>
            </a:r>
            <a:endParaRPr b="0" lang="en-US" sz="3200" spc="-1" strike="noStrike">
              <a:solidFill>
                <a:srgbClr val="1976d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4440" y="914400"/>
            <a:ext cx="7924680" cy="5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Credentials and Job Descriptions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055160" y="1981080"/>
            <a:ext cx="7085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0"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  <a:p>
            <a:pPr marL="177840" indent="-177840">
              <a:spcBef>
                <a:spcPts val="3501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Be prepared to document credentials.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  <a:p>
            <a:pPr marL="177840" indent="-177840">
              <a:spcBef>
                <a:spcPts val="3501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If new positions are created a job description will probably be required. 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4440" y="914400"/>
            <a:ext cx="7924680" cy="5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Appendix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055160" y="1981080"/>
            <a:ext cx="7085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>
              <a:spcBef>
                <a:spcPts val="2999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76d0"/>
                </a:solidFill>
                <a:latin typeface="Arial"/>
              </a:rPr>
              <a:t>The appendix may be the place where all of the letters, or proofs are placed.</a:t>
            </a:r>
            <a:endParaRPr b="0" lang="en-US" sz="2400" spc="-1" strike="noStrike">
              <a:solidFill>
                <a:srgbClr val="1976d0"/>
              </a:solidFill>
              <a:latin typeface="Arial"/>
            </a:endParaRPr>
          </a:p>
          <a:p>
            <a:pPr marL="177840" indent="-177840">
              <a:spcBef>
                <a:spcPts val="2999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76d0"/>
                </a:solidFill>
                <a:latin typeface="Arial"/>
              </a:rPr>
              <a:t>The appendix may include all research documentation and a bibliography.</a:t>
            </a:r>
            <a:endParaRPr b="0" lang="en-US" sz="2400" spc="-1" strike="noStrike">
              <a:solidFill>
                <a:srgbClr val="1976d0"/>
              </a:solidFill>
              <a:latin typeface="Arial"/>
            </a:endParaRPr>
          </a:p>
          <a:p>
            <a:pPr marL="177840" indent="-177840">
              <a:spcBef>
                <a:spcPts val="2999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76d0"/>
                </a:solidFill>
                <a:latin typeface="Arial"/>
              </a:rPr>
              <a:t>The appendix may include additional documentation that would not fit in the body of the grant. </a:t>
            </a:r>
            <a:endParaRPr b="0" lang="en-US" sz="2400" spc="-1" strike="noStrike">
              <a:solidFill>
                <a:srgbClr val="1976d0"/>
              </a:solidFill>
              <a:latin typeface="Arial"/>
            </a:endParaRPr>
          </a:p>
          <a:p>
            <a:pPr marL="177840" indent="-177840">
              <a:spcBef>
                <a:spcPts val="2999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76d0"/>
                </a:solidFill>
                <a:latin typeface="Arial"/>
              </a:rPr>
              <a:t>The appendix may include all correlations.</a:t>
            </a:r>
            <a:endParaRPr b="0" lang="en-US" sz="2400" spc="-1" strike="noStrike">
              <a:solidFill>
                <a:srgbClr val="1976d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4440" y="914400"/>
            <a:ext cx="7924680" cy="5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Appendix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055160" y="1981080"/>
            <a:ext cx="7085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>
              <a:spcBef>
                <a:spcPts val="3501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Include relevant data and research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  <a:p>
            <a:pPr marL="177840" indent="-177840">
              <a:spcBef>
                <a:spcPts val="3501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Don’t use the appendix as a place to continue narratives that did not fit into the page limits of the grant.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  <a:p>
            <a:pPr marL="177840" indent="-177840">
              <a:spcBef>
                <a:spcPts val="3501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Only include in the appendix material required by the grant. 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4440" y="914400"/>
            <a:ext cx="7924680" cy="5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Grants.gov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55160" y="1981080"/>
            <a:ext cx="7085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>
              <a:lnSpc>
                <a:spcPct val="90000"/>
              </a:lnSpc>
              <a:spcBef>
                <a:spcPts val="3501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Track your application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3501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Applicant Resources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  <a:p>
            <a:pPr lvl="1" marL="571680" indent="-228600">
              <a:lnSpc>
                <a:spcPct val="90000"/>
              </a:lnSpc>
              <a:spcBef>
                <a:spcPts val="2999"/>
              </a:spcBef>
              <a:buClr>
                <a:srgbClr val="1f52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76d0"/>
                </a:solidFill>
                <a:latin typeface="Arial Unicode MS"/>
              </a:rPr>
              <a:t>Guides</a:t>
            </a:r>
            <a:endParaRPr b="0" lang="en-US" sz="2400" spc="-1" strike="noStrike">
              <a:solidFill>
                <a:srgbClr val="1976d0"/>
              </a:solidFill>
              <a:latin typeface="Arial Unicode MS"/>
            </a:endParaRPr>
          </a:p>
          <a:p>
            <a:pPr lvl="1" marL="571680" indent="-228600">
              <a:lnSpc>
                <a:spcPct val="90000"/>
              </a:lnSpc>
              <a:spcBef>
                <a:spcPts val="2999"/>
              </a:spcBef>
              <a:buClr>
                <a:srgbClr val="1f52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76d0"/>
                </a:solidFill>
                <a:latin typeface="Arial Unicode MS"/>
              </a:rPr>
              <a:t>Frequently asked questions</a:t>
            </a:r>
            <a:endParaRPr b="0" lang="en-US" sz="2400" spc="-1" strike="noStrike">
              <a:solidFill>
                <a:srgbClr val="1976d0"/>
              </a:solidFill>
              <a:latin typeface="Arial Unicode MS"/>
            </a:endParaRPr>
          </a:p>
          <a:p>
            <a:pPr lvl="1" marL="571680" indent="-228600">
              <a:lnSpc>
                <a:spcPct val="90000"/>
              </a:lnSpc>
              <a:spcBef>
                <a:spcPts val="2999"/>
              </a:spcBef>
              <a:buClr>
                <a:srgbClr val="1f52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76d0"/>
                </a:solidFill>
                <a:latin typeface="Arial Unicode MS"/>
              </a:rPr>
              <a:t>Links to download government software</a:t>
            </a:r>
            <a:endParaRPr b="0" lang="en-US" sz="2400" spc="-1" strike="noStrike">
              <a:solidFill>
                <a:srgbClr val="1976d0"/>
              </a:solidFill>
              <a:latin typeface="Arial Unicode MS"/>
            </a:endParaRPr>
          </a:p>
          <a:p>
            <a:pPr lvl="1" marL="571680" indent="-228600">
              <a:lnSpc>
                <a:spcPct val="90000"/>
              </a:lnSpc>
              <a:spcBef>
                <a:spcPts val="2999"/>
              </a:spcBef>
              <a:buClr>
                <a:srgbClr val="1f52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76d0"/>
                </a:solidFill>
                <a:latin typeface="Arial Unicode MS"/>
              </a:rPr>
              <a:t>Help submitting an egrant</a:t>
            </a:r>
            <a:endParaRPr b="0" lang="en-US" sz="2400" spc="-1" strike="noStrike">
              <a:solidFill>
                <a:srgbClr val="1976d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4440" y="914400"/>
            <a:ext cx="7924680" cy="5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RFP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055160" y="1981080"/>
            <a:ext cx="7085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>
              <a:lnSpc>
                <a:spcPct val="90000"/>
              </a:lnSpc>
              <a:spcBef>
                <a:spcPts val="3501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An RFP – “request for proposal” is another form of a grant.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3501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Most RFP’s have specific sections just like a grant, but require shorter more concise answers. 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3501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Sometimes an RFP is submitted first and used as a screening device before actual grant submission.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4440" y="914400"/>
            <a:ext cx="7924680" cy="5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Grants—Final Checks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55160" y="1981080"/>
            <a:ext cx="7085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>
              <a:spcBef>
                <a:spcPts val="2999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76d0"/>
                </a:solidFill>
                <a:latin typeface="Arial"/>
              </a:rPr>
              <a:t>Reread the entire grant before sending</a:t>
            </a:r>
            <a:endParaRPr b="0" lang="en-US" sz="2400" spc="-1" strike="noStrike">
              <a:solidFill>
                <a:srgbClr val="1976d0"/>
              </a:solidFill>
              <a:latin typeface="Arial"/>
            </a:endParaRPr>
          </a:p>
          <a:p>
            <a:pPr marL="177840" indent="-177840">
              <a:spcBef>
                <a:spcPts val="2999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76d0"/>
                </a:solidFill>
                <a:latin typeface="Arial"/>
              </a:rPr>
              <a:t>Check spelling, grammar</a:t>
            </a:r>
            <a:endParaRPr b="0" lang="en-US" sz="2400" spc="-1" strike="noStrike">
              <a:solidFill>
                <a:srgbClr val="1976d0"/>
              </a:solidFill>
              <a:latin typeface="Arial"/>
            </a:endParaRPr>
          </a:p>
          <a:p>
            <a:pPr marL="177840" indent="-177840">
              <a:spcBef>
                <a:spcPts val="2999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76d0"/>
                </a:solidFill>
                <a:latin typeface="Arial"/>
              </a:rPr>
              <a:t>Be aware of where the page numbers are to be placed.</a:t>
            </a:r>
            <a:endParaRPr b="0" lang="en-US" sz="2400" spc="-1" strike="noStrike">
              <a:solidFill>
                <a:srgbClr val="1976d0"/>
              </a:solidFill>
              <a:latin typeface="Arial"/>
            </a:endParaRPr>
          </a:p>
          <a:p>
            <a:pPr marL="177840" indent="-177840">
              <a:spcBef>
                <a:spcPts val="2999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76d0"/>
                </a:solidFill>
                <a:latin typeface="Arial"/>
              </a:rPr>
              <a:t>Put a name on each page of the grant</a:t>
            </a:r>
            <a:endParaRPr b="0" lang="en-US" sz="2400" spc="-1" strike="noStrike">
              <a:solidFill>
                <a:srgbClr val="1976d0"/>
              </a:solidFill>
              <a:latin typeface="Arial"/>
            </a:endParaRPr>
          </a:p>
          <a:p>
            <a:pPr marL="177840" indent="-177840">
              <a:spcBef>
                <a:spcPts val="2999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76d0"/>
                </a:solidFill>
                <a:latin typeface="Arial"/>
              </a:rPr>
              <a:t>Be on time! You will not be funded if you are late.</a:t>
            </a:r>
            <a:endParaRPr b="0" lang="en-US" sz="2400" spc="-1" strike="noStrike">
              <a:solidFill>
                <a:srgbClr val="1976d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4440" y="914400"/>
            <a:ext cx="7924680" cy="5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Grants- Final Checks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055160" y="1981080"/>
            <a:ext cx="7085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>
              <a:spcBef>
                <a:spcPts val="3501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Review the language of the grant. 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  <a:p>
            <a:pPr marL="177840" indent="-177840">
              <a:spcBef>
                <a:spcPts val="3501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Don’t get carried away with adjectives or jargon. 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  <a:p>
            <a:pPr marL="177840" indent="-177840">
              <a:spcBef>
                <a:spcPts val="3501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Avoid  acronyms- especially sentences of them. Example: All ABC’s, should be aware of EFG’s when using HIJ, in conjunction with MNOP.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4440" y="914400"/>
            <a:ext cx="7924680" cy="5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Grants—Final Checks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055160" y="1981080"/>
            <a:ext cx="7085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>
              <a:spcBef>
                <a:spcPts val="2999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76d0"/>
                </a:solidFill>
                <a:latin typeface="Arial"/>
              </a:rPr>
              <a:t>If the grant states a dollar amount, be within the budget.  Have someone check all figures for accuracy. </a:t>
            </a:r>
            <a:endParaRPr b="0" lang="en-US" sz="2400" spc="-1" strike="noStrike">
              <a:solidFill>
                <a:srgbClr val="1976d0"/>
              </a:solidFill>
              <a:latin typeface="Arial"/>
            </a:endParaRPr>
          </a:p>
          <a:p>
            <a:pPr marL="177840" indent="-177840">
              <a:spcBef>
                <a:spcPts val="2999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76d0"/>
                </a:solidFill>
                <a:latin typeface="Arial"/>
              </a:rPr>
              <a:t>Be prepared to negotiate your budget so ask for a little more than you actually need. Have some items you could leave out. </a:t>
            </a:r>
            <a:endParaRPr b="0" lang="en-US" sz="2400" spc="-1" strike="noStrike">
              <a:solidFill>
                <a:srgbClr val="1976d0"/>
              </a:solidFill>
              <a:latin typeface="Arial"/>
            </a:endParaRPr>
          </a:p>
          <a:p>
            <a:pPr marL="177840" indent="-177840">
              <a:spcBef>
                <a:spcPts val="2999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76d0"/>
                </a:solidFill>
                <a:latin typeface="Arial"/>
              </a:rPr>
              <a:t>Be neat—not cutesy. Save the decorations for bulletin boards.</a:t>
            </a:r>
            <a:endParaRPr b="0" lang="en-US" sz="2400" spc="-1" strike="noStrike">
              <a:solidFill>
                <a:srgbClr val="1976d0"/>
              </a:solidFill>
              <a:latin typeface="Arial"/>
            </a:endParaRPr>
          </a:p>
          <a:p>
            <a:pPr marL="177840"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76d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4440" y="914400"/>
            <a:ext cx="7924680" cy="5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Grants Final Checks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055160" y="1981080"/>
            <a:ext cx="7085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>
              <a:spcBef>
                <a:spcPts val="3501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Be prepared to win and/or be rejected.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  <a:p>
            <a:pPr marL="177840" indent="-177840">
              <a:spcBef>
                <a:spcPts val="3501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Acceptance may be demographic or political.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  <a:p>
            <a:pPr marL="177840" indent="-177840">
              <a:spcBef>
                <a:spcPts val="3501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Make sure you have used the language of the grant or language from current journals. 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  <a:p>
            <a:pPr marL="177840"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4440" y="914400"/>
            <a:ext cx="7924680" cy="5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Grant Checks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055160" y="1981080"/>
            <a:ext cx="7085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>
              <a:spcBef>
                <a:spcPts val="2999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76d0"/>
                </a:solidFill>
                <a:latin typeface="Arial"/>
              </a:rPr>
              <a:t>If a foundation gives you a grant with specific sections and grant seems to repeat the same question do not refer to a prior page</a:t>
            </a:r>
            <a:r>
              <a:rPr b="0" i="1" lang="en-US" sz="2400" spc="-1" strike="noStrike">
                <a:solidFill>
                  <a:srgbClr val="1976d0"/>
                </a:solidFill>
                <a:latin typeface="Arial"/>
              </a:rPr>
              <a:t>—repeat your answer!</a:t>
            </a:r>
            <a:endParaRPr b="0" lang="en-US" sz="2400" spc="-1" strike="noStrike">
              <a:solidFill>
                <a:srgbClr val="1976d0"/>
              </a:solidFill>
              <a:latin typeface="Arial"/>
            </a:endParaRPr>
          </a:p>
          <a:p>
            <a:pPr marL="177840" indent="-177840">
              <a:spcBef>
                <a:spcPts val="2999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76d0"/>
                </a:solidFill>
                <a:latin typeface="Arial"/>
              </a:rPr>
              <a:t>Many grants are written  in sections so check verb tenses.</a:t>
            </a:r>
            <a:endParaRPr b="0" lang="en-US" sz="2400" spc="-1" strike="noStrike">
              <a:solidFill>
                <a:srgbClr val="1976d0"/>
              </a:solidFill>
              <a:latin typeface="Arial"/>
            </a:endParaRPr>
          </a:p>
          <a:p>
            <a:pPr marL="177840" indent="-177840">
              <a:spcBef>
                <a:spcPts val="2999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76d0"/>
                </a:solidFill>
                <a:latin typeface="Arial"/>
              </a:rPr>
              <a:t>Use the active tense of verbs.</a:t>
            </a:r>
            <a:endParaRPr b="0" lang="en-US" sz="2400" spc="-1" strike="noStrike">
              <a:solidFill>
                <a:srgbClr val="1976d0"/>
              </a:solidFill>
              <a:latin typeface="Arial"/>
            </a:endParaRPr>
          </a:p>
          <a:p>
            <a:pPr marL="177840" indent="-177840">
              <a:spcBef>
                <a:spcPts val="2999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76d0"/>
                </a:solidFill>
                <a:latin typeface="Arial"/>
              </a:rPr>
              <a:t>Avoid “I, me, we, and our if at all possible. </a:t>
            </a:r>
            <a:endParaRPr b="0" lang="en-US" sz="2400" spc="-1" strike="noStrike">
              <a:solidFill>
                <a:srgbClr val="1976d0"/>
              </a:solidFill>
              <a:latin typeface="Arial"/>
            </a:endParaRPr>
          </a:p>
          <a:p>
            <a:pPr marL="177840"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76d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4440" y="914400"/>
            <a:ext cx="7924680" cy="5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Grant Checks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055160" y="1981080"/>
            <a:ext cx="7085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>
              <a:spcBef>
                <a:spcPts val="2999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76d0"/>
                </a:solidFill>
                <a:latin typeface="Arial"/>
              </a:rPr>
              <a:t>Make sure all those who are mentioned in the grant are aware and agree to participate.</a:t>
            </a:r>
            <a:endParaRPr b="0" lang="en-US" sz="2400" spc="-1" strike="noStrike">
              <a:solidFill>
                <a:srgbClr val="1976d0"/>
              </a:solidFill>
              <a:latin typeface="Arial"/>
            </a:endParaRPr>
          </a:p>
          <a:p>
            <a:pPr marL="177840" indent="-177840">
              <a:spcBef>
                <a:spcPts val="2999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76d0"/>
                </a:solidFill>
                <a:latin typeface="Arial"/>
              </a:rPr>
              <a:t>Review each section and check against the rubric</a:t>
            </a:r>
            <a:endParaRPr b="0" lang="en-US" sz="2400" spc="-1" strike="noStrike">
              <a:solidFill>
                <a:srgbClr val="1976d0"/>
              </a:solidFill>
              <a:latin typeface="Arial"/>
            </a:endParaRPr>
          </a:p>
          <a:p>
            <a:pPr marL="177840" indent="-177840">
              <a:spcBef>
                <a:spcPts val="2999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76d0"/>
                </a:solidFill>
                <a:latin typeface="Arial"/>
              </a:rPr>
              <a:t>Make sure all necessary signatures are in place.</a:t>
            </a:r>
            <a:endParaRPr b="0" lang="en-US" sz="2400" spc="-1" strike="noStrike">
              <a:solidFill>
                <a:srgbClr val="1976d0"/>
              </a:solidFill>
              <a:latin typeface="Arial"/>
            </a:endParaRPr>
          </a:p>
          <a:p>
            <a:pPr marL="177840" indent="-177840">
              <a:spcBef>
                <a:spcPts val="2999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76d0"/>
                </a:solidFill>
                <a:latin typeface="Arial"/>
              </a:rPr>
              <a:t>Make sure all numbers, proofs and documents are included.</a:t>
            </a:r>
            <a:endParaRPr b="0" lang="en-US" sz="2400" spc="-1" strike="noStrike">
              <a:solidFill>
                <a:srgbClr val="1976d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4440" y="914400"/>
            <a:ext cx="7924680" cy="5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Grant Checks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055160" y="1981080"/>
            <a:ext cx="7085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  <a:p>
            <a:pPr marL="177840"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  <a:p>
            <a:pPr marL="177840" indent="0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976d0"/>
                </a:solidFill>
                <a:latin typeface="Arial"/>
              </a:rPr>
              <a:t>       </a:t>
            </a:r>
            <a:r>
              <a:rPr b="0" lang="en-US" sz="4000" spc="-1" strike="noStrike">
                <a:solidFill>
                  <a:srgbClr val="1976d0"/>
                </a:solidFill>
                <a:latin typeface="Arial"/>
              </a:rPr>
              <a:t>Get a confirmation</a:t>
            </a:r>
            <a:endParaRPr b="0" lang="en-US" sz="4000" spc="-1" strike="noStrike">
              <a:solidFill>
                <a:srgbClr val="1976d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4440" y="914400"/>
            <a:ext cx="7924680" cy="5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Grant Checks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055160" y="1981080"/>
            <a:ext cx="7085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>
              <a:spcBef>
                <a:spcPts val="3501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Read prior successful grants before submitting. Don’t copy other grants!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  <a:p>
            <a:pPr marL="177840" indent="-177840">
              <a:spcBef>
                <a:spcPts val="3501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Read reviews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4440" y="914400"/>
            <a:ext cx="7924680" cy="5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Grants—Foundations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055160" y="1981080"/>
            <a:ext cx="7085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76040" indent="-176040">
              <a:lnSpc>
                <a:spcPct val="90000"/>
              </a:lnSpc>
              <a:spcBef>
                <a:spcPts val="2999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76d0"/>
                </a:solidFill>
                <a:latin typeface="Arial"/>
              </a:rPr>
              <a:t>If at first you don’t succeed, </a:t>
            </a:r>
            <a:br>
              <a:rPr sz="2400"/>
            </a:br>
            <a:r>
              <a:rPr b="0" lang="en-US" sz="2400" spc="-1" strike="noStrike">
                <a:solidFill>
                  <a:srgbClr val="1976d0"/>
                </a:solidFill>
                <a:latin typeface="Arial"/>
              </a:rPr>
              <a:t>submit to someone else.</a:t>
            </a:r>
            <a:endParaRPr b="0" lang="en-US" sz="2400" spc="-1" strike="noStrike">
              <a:solidFill>
                <a:srgbClr val="1976d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2999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76d0"/>
                </a:solidFill>
                <a:latin typeface="Arial"/>
              </a:rPr>
              <a:t>Be web savvy.</a:t>
            </a:r>
            <a:endParaRPr b="0" lang="en-US" sz="2400" spc="-1" strike="noStrike">
              <a:solidFill>
                <a:srgbClr val="1976d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2999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76d0"/>
                </a:solidFill>
                <a:latin typeface="Arial"/>
              </a:rPr>
              <a:t>Be unique.</a:t>
            </a:r>
            <a:endParaRPr b="0" lang="en-US" sz="2400" spc="-1" strike="noStrike">
              <a:solidFill>
                <a:srgbClr val="1976d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2999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76d0"/>
                </a:solidFill>
                <a:latin typeface="Arial"/>
              </a:rPr>
              <a:t>Have a gimmick.</a:t>
            </a:r>
            <a:endParaRPr b="0" lang="en-US" sz="2400" spc="-1" strike="noStrike">
              <a:solidFill>
                <a:srgbClr val="1976d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2999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76d0"/>
                </a:solidFill>
                <a:latin typeface="Arial"/>
              </a:rPr>
              <a:t>Involve community and parents.</a:t>
            </a:r>
            <a:endParaRPr b="0" lang="en-US" sz="2400" spc="-1" strike="noStrike">
              <a:solidFill>
                <a:srgbClr val="1976d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2999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76d0"/>
                </a:solidFill>
                <a:latin typeface="Arial"/>
              </a:rPr>
              <a:t>3 “Ps”—Publish, Promote, Pray!</a:t>
            </a:r>
            <a:endParaRPr b="0" lang="en-US" sz="2400" spc="-1" strike="noStrike">
              <a:solidFill>
                <a:srgbClr val="1976d0"/>
              </a:solidFill>
              <a:latin typeface="Arial"/>
            </a:endParaRPr>
          </a:p>
        </p:txBody>
      </p:sp>
      <p:sp>
        <p:nvSpPr>
          <p:cNvPr id="257" name="WordArt 4"/>
          <p:cNvSpPr txBox="1"/>
          <p:nvPr/>
        </p:nvSpPr>
        <p:spPr>
          <a:xfrm>
            <a:off x="6337440" y="2438280"/>
            <a:ext cx="226044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99ff">
                      <a:alpha val="86000"/>
                    </a:srgbClr>
                  </a:solidFill>
                  <a:miter/>
                </a:ln>
                <a:gradFill rotWithShape="0">
                  <a:gsLst>
                    <a:gs pos="0">
                      <a:srgbClr val="3399ff"/>
                    </a:gs>
                    <a:gs pos="100000">
                      <a:srgbClr val="4fff7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Arial Black"/>
              </a:rPr>
              <a:t>PUBLISH</a:t>
            </a:r>
            <a:endParaRPr b="0" lang="en-US" sz="2400" spc="1" strike="noStrike">
              <a:ln w="12600">
                <a:solidFill>
                  <a:srgbClr val="3399ff">
                    <a:alpha val="86000"/>
                  </a:srgbClr>
                </a:solidFill>
                <a:miter/>
              </a:ln>
              <a:gradFill rotWithShape="0">
                <a:gsLst>
                  <a:gs pos="0">
                    <a:srgbClr val="3399ff"/>
                  </a:gs>
                  <a:gs pos="100000">
                    <a:srgbClr val="4fff70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58" name="WordArt 5"/>
          <p:cNvSpPr txBox="1"/>
          <p:nvPr/>
        </p:nvSpPr>
        <p:spPr>
          <a:xfrm>
            <a:off x="6248520" y="3581280"/>
            <a:ext cx="243828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99ff">
                      <a:alpha val="86000"/>
                    </a:srgbClr>
                  </a:solidFill>
                  <a:miter/>
                </a:ln>
                <a:gradFill rotWithShape="0">
                  <a:gsLst>
                    <a:gs pos="0">
                      <a:srgbClr val="3399ff"/>
                    </a:gs>
                    <a:gs pos="100000">
                      <a:srgbClr val="4fff7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Arial Black"/>
              </a:rPr>
              <a:t>PROMOTE</a:t>
            </a:r>
            <a:endParaRPr b="0" lang="en-US" sz="2400" spc="1" strike="noStrike">
              <a:ln w="12600">
                <a:solidFill>
                  <a:srgbClr val="3399ff">
                    <a:alpha val="86000"/>
                  </a:srgbClr>
                </a:solidFill>
                <a:miter/>
              </a:ln>
              <a:gradFill rotWithShape="0">
                <a:gsLst>
                  <a:gs pos="0">
                    <a:srgbClr val="3399ff"/>
                  </a:gs>
                  <a:gs pos="100000">
                    <a:srgbClr val="4fff70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59" name="WordArt 6"/>
          <p:cNvSpPr txBox="1"/>
          <p:nvPr/>
        </p:nvSpPr>
        <p:spPr>
          <a:xfrm>
            <a:off x="6362640" y="4724280"/>
            <a:ext cx="221004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99ff">
                      <a:alpha val="86000"/>
                    </a:srgbClr>
                  </a:solidFill>
                  <a:miter/>
                </a:ln>
                <a:gradFill rotWithShape="0">
                  <a:gsLst>
                    <a:gs pos="0">
                      <a:srgbClr val="3399ff"/>
                    </a:gs>
                    <a:gs pos="100000">
                      <a:srgbClr val="4fff7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Arial Black"/>
              </a:rPr>
              <a:t>PRAY</a:t>
            </a:r>
            <a:endParaRPr b="0" lang="en-US" sz="2400" spc="1" strike="noStrike">
              <a:ln w="12600">
                <a:solidFill>
                  <a:srgbClr val="3399ff">
                    <a:alpha val="86000"/>
                  </a:srgbClr>
                </a:solidFill>
                <a:miter/>
              </a:ln>
              <a:gradFill rotWithShape="0">
                <a:gsLst>
                  <a:gs pos="0">
                    <a:srgbClr val="3399ff"/>
                  </a:gs>
                  <a:gs pos="100000">
                    <a:srgbClr val="4fff70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4440" y="914400"/>
            <a:ext cx="7924680" cy="5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Grants.gov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55160" y="1981080"/>
            <a:ext cx="7085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>
              <a:spcBef>
                <a:spcPts val="3501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Help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  <a:p>
            <a:pPr lvl="1" marL="571680" indent="-228600">
              <a:spcBef>
                <a:spcPts val="2999"/>
              </a:spcBef>
              <a:buClr>
                <a:srgbClr val="1f52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76d0"/>
                </a:solidFill>
                <a:latin typeface="Arial Unicode MS"/>
              </a:rPr>
              <a:t>Links to documents and downloads</a:t>
            </a:r>
            <a:endParaRPr b="0" lang="en-US" sz="2400" spc="-1" strike="noStrike">
              <a:solidFill>
                <a:srgbClr val="1976d0"/>
              </a:solidFill>
              <a:latin typeface="Arial Unicode MS"/>
            </a:endParaRPr>
          </a:p>
          <a:p>
            <a:pPr marL="177840" indent="-177840">
              <a:spcBef>
                <a:spcPts val="3501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Contact Us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  <a:p>
            <a:pPr lvl="1" marL="571680" indent="-228600">
              <a:spcBef>
                <a:spcPts val="2999"/>
              </a:spcBef>
              <a:buClr>
                <a:srgbClr val="1f52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76d0"/>
                </a:solidFill>
                <a:latin typeface="Arial Unicode MS"/>
              </a:rPr>
              <a:t>How and who to call or email</a:t>
            </a:r>
            <a:endParaRPr b="0" lang="en-US" sz="2400" spc="-1" strike="noStrike">
              <a:solidFill>
                <a:srgbClr val="1976d0"/>
              </a:solidFill>
              <a:latin typeface="Arial Unicode MS"/>
            </a:endParaRPr>
          </a:p>
          <a:p>
            <a:pPr marL="177840" indent="-177840">
              <a:spcBef>
                <a:spcPts val="3501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Grant E-Mail Alerts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  <a:p>
            <a:pPr marL="177840"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4440" y="914400"/>
            <a:ext cx="7924680" cy="5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After the Acceptance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055160" y="1981080"/>
            <a:ext cx="7085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  <a:p>
            <a:pPr marL="177840"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  <a:p>
            <a:pPr marL="177840" indent="0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976d0"/>
                </a:solidFill>
                <a:latin typeface="Arial"/>
              </a:rPr>
              <a:t>         </a:t>
            </a:r>
            <a:r>
              <a:rPr b="0" lang="en-US" sz="4000" spc="-1" strike="noStrike">
                <a:solidFill>
                  <a:srgbClr val="1976d0"/>
                </a:solidFill>
                <a:latin typeface="Arial"/>
              </a:rPr>
              <a:t>Celebrate Wisely</a:t>
            </a:r>
            <a:endParaRPr b="0" lang="en-US" sz="4000" spc="-1" strike="noStrike">
              <a:solidFill>
                <a:srgbClr val="1976d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04440" y="914400"/>
            <a:ext cx="7924680" cy="5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After Acceptance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055160" y="1981080"/>
            <a:ext cx="7085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>
              <a:spcBef>
                <a:spcPts val="3501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Keep a record of successes and failures.  Be prepared to explain failures honestly.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  <a:p>
            <a:pPr marL="177840" indent="-177840">
              <a:spcBef>
                <a:spcPts val="3501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Keep accurate records, keep accurate records, keep accurate records,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  <a:p>
            <a:pPr marL="177840" indent="-177840">
              <a:spcBef>
                <a:spcPts val="3501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Write the final report and turn it in on time.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  <a:p>
            <a:pPr marL="177840"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4440" y="914400"/>
            <a:ext cx="7924680" cy="5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Sources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055160" y="1981080"/>
            <a:ext cx="7085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>
              <a:spcBef>
                <a:spcPts val="3501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Arial"/>
              </a:rPr>
              <a:t>www.grants.gov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  <a:p>
            <a:pPr marL="177840" indent="-177840">
              <a:spcBef>
                <a:spcPts val="3501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Arial"/>
              </a:rPr>
              <a:t>www.fdncenter.org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  <a:p>
            <a:pPr marL="177840" indent="-177840">
              <a:spcBef>
                <a:spcPts val="3501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Arial"/>
              </a:rPr>
              <a:t>Publisher’s websites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  <a:p>
            <a:pPr marL="177840" indent="-177840">
              <a:spcBef>
                <a:spcPts val="3501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Arial"/>
              </a:rPr>
              <a:t>State websites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  <a:p>
            <a:pPr marL="177840" indent="-177840">
              <a:spcBef>
                <a:spcPts val="3501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Arial"/>
              </a:rPr>
              <a:t>Other state’s websites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04440" y="914400"/>
            <a:ext cx="7924680" cy="5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Sources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055160" y="1981080"/>
            <a:ext cx="7085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>
              <a:lnSpc>
                <a:spcPct val="90000"/>
              </a:lnSpc>
              <a:spcBef>
                <a:spcPts val="2500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profit Support Organizations (National)</a:t>
            </a:r>
            <a:endParaRPr b="0" lang="en-US" sz="2000" spc="-1" strike="noStrike">
              <a:solidFill>
                <a:srgbClr val="1976d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2500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lliance for Nonprofit managemen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ww.Allianceonline.org</a:t>
            </a:r>
            <a:endParaRPr b="0" lang="en-US" sz="2000" spc="-1" strike="noStrike">
              <a:solidFill>
                <a:srgbClr val="1976d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2500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ncil for Excellence in Nonprofit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ww.cen.org/site/cen</a:t>
            </a:r>
            <a:endParaRPr b="0" lang="en-US" sz="2000" spc="-1" strike="noStrike">
              <a:solidFill>
                <a:srgbClr val="1976d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2500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ncil on Foundation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ww.conf.org</a:t>
            </a:r>
            <a:endParaRPr b="0" lang="en-US" sz="2000" spc="-1" strike="noStrike">
              <a:solidFill>
                <a:srgbClr val="1976d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2500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ependent Secto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ww.indepsec.org</a:t>
            </a:r>
            <a:endParaRPr b="0" lang="en-US" sz="2000" spc="-1" strike="noStrike">
              <a:solidFill>
                <a:srgbClr val="1976d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2500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76d0"/>
                </a:solidFill>
                <a:latin typeface="Arial"/>
              </a:rPr>
              <a:t>National Council of Nonprofit Organizations www.ncna.org</a:t>
            </a:r>
            <a:endParaRPr b="0" lang="en-US" sz="2000" spc="-1" strike="noStrike">
              <a:solidFill>
                <a:srgbClr val="1976d0"/>
              </a:solidFill>
              <a:latin typeface="Arial"/>
            </a:endParaRPr>
          </a:p>
          <a:p>
            <a:pPr marL="177840"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76d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4440" y="914400"/>
            <a:ext cx="7924680" cy="5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Sources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055160" y="1981080"/>
            <a:ext cx="7085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172440" indent="-172440">
              <a:lnSpc>
                <a:spcPct val="80000"/>
              </a:lnSpc>
              <a:spcBef>
                <a:spcPts val="2999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ciety for Nonprofit Organizations www.snpo.org</a:t>
            </a:r>
            <a:endParaRPr b="0" lang="en-US" sz="2400" spc="-1" strike="noStrike">
              <a:solidFill>
                <a:srgbClr val="1976d0"/>
              </a:solidFill>
              <a:latin typeface="Arial"/>
            </a:endParaRPr>
          </a:p>
          <a:p>
            <a:pPr marL="172440" indent="-172440">
              <a:lnSpc>
                <a:spcPct val="80000"/>
              </a:lnSpc>
              <a:spcBef>
                <a:spcPts val="2999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oundation Center www.foundationcenter.org</a:t>
            </a:r>
            <a:endParaRPr b="0" lang="en-US" sz="2400" spc="-1" strike="noStrike">
              <a:solidFill>
                <a:srgbClr val="1976d0"/>
              </a:solidFill>
              <a:latin typeface="Arial"/>
            </a:endParaRPr>
          </a:p>
          <a:p>
            <a:pPr marL="172440" indent="-172440">
              <a:lnSpc>
                <a:spcPct val="80000"/>
              </a:lnSpc>
              <a:spcBef>
                <a:spcPts val="2999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dncenter.org/funders/grantmakes/gws_corp/corpl.html</a:t>
            </a:r>
            <a:endParaRPr b="0" lang="en-US" sz="2400" spc="-1" strike="noStrike">
              <a:solidFill>
                <a:srgbClr val="1976d0"/>
              </a:solidFill>
              <a:latin typeface="Arial"/>
            </a:endParaRPr>
          </a:p>
          <a:p>
            <a:pPr marL="172440" indent="-172440">
              <a:lnSpc>
                <a:spcPct val="80000"/>
              </a:lnSpc>
              <a:spcBef>
                <a:spcPts val="2999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niversity of Wisconsin Grants Information center, a coopering collection of the Foundation Center Library Networks: www.library.wis.edu/libraries/Memorial/grantshp.htm</a:t>
            </a:r>
            <a:endParaRPr b="0" lang="en-US" sz="2400" spc="-1" strike="noStrike">
              <a:solidFill>
                <a:srgbClr val="1976d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4440" y="914400"/>
            <a:ext cx="7924680" cy="5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Sources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055160" y="1981080"/>
            <a:ext cx="7085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>
              <a:spcBef>
                <a:spcPts val="3501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raftsmanship Center: www.tgci.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  <a:p>
            <a:pPr marL="177840" indent="-177840">
              <a:spcBef>
                <a:spcPts val="3501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uide Star: www.guidestar.org data base of every nonprofit organization in the United States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  <a:p>
            <a:pPr marL="177840" indent="-177840">
              <a:spcBef>
                <a:spcPts val="3501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chigan State University Research Links www.lib.msu.edu/harris23/grants/2child.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4440" y="914400"/>
            <a:ext cx="7924680" cy="5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Sources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055160" y="1981080"/>
            <a:ext cx="7085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>
              <a:spcBef>
                <a:spcPts val="2999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ana Foundation www.dana.org (the arts)</a:t>
            </a:r>
            <a:endParaRPr b="0" lang="en-US" sz="2400" spc="-1" strike="noStrike">
              <a:solidFill>
                <a:srgbClr val="1976d0"/>
              </a:solidFill>
              <a:latin typeface="Arial"/>
            </a:endParaRPr>
          </a:p>
          <a:p>
            <a:pPr marL="177840" indent="-177840">
              <a:spcBef>
                <a:spcPts val="2999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bin Hood Foundation www.robinhood.org</a:t>
            </a:r>
            <a:endParaRPr b="0" lang="en-US" sz="2400" spc="-1" strike="noStrike">
              <a:solidFill>
                <a:srgbClr val="1976d0"/>
              </a:solidFill>
              <a:latin typeface="Arial"/>
            </a:endParaRPr>
          </a:p>
          <a:p>
            <a:pPr marL="177840" indent="-177840">
              <a:spcBef>
                <a:spcPts val="2999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Joyce Foundation www. Joycefdn.org</a:t>
            </a:r>
            <a:endParaRPr b="0" lang="en-US" sz="2400" spc="-1" strike="noStrike">
              <a:solidFill>
                <a:srgbClr val="1976d0"/>
              </a:solidFill>
              <a:latin typeface="Arial"/>
            </a:endParaRPr>
          </a:p>
          <a:p>
            <a:pPr marL="177840" indent="-177840">
              <a:spcBef>
                <a:spcPts val="2999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fts in Kind www.giftsinkind.org – provides a catalog of donated products of all kinds. </a:t>
            </a:r>
            <a:endParaRPr b="0" lang="en-US" sz="2400" spc="-1" strike="noStrike">
              <a:solidFill>
                <a:srgbClr val="1976d0"/>
              </a:solidFill>
              <a:latin typeface="Arial"/>
            </a:endParaRPr>
          </a:p>
          <a:p>
            <a:pPr marL="177840" indent="-177840">
              <a:spcBef>
                <a:spcPts val="2999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ch Soup www.techsoup.org- software donations from a variety of companies</a:t>
            </a:r>
            <a:endParaRPr b="0" lang="en-US" sz="2400" spc="-1" strike="noStrike">
              <a:solidFill>
                <a:srgbClr val="1976d0"/>
              </a:solidFill>
              <a:latin typeface="Arial"/>
            </a:endParaRPr>
          </a:p>
          <a:p>
            <a:pPr marL="177840"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76d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4440" y="914400"/>
            <a:ext cx="7924680" cy="5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Suggestions for Research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055160" y="1981080"/>
            <a:ext cx="7085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>
              <a:spcBef>
                <a:spcPts val="3501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Use parents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  <a:p>
            <a:pPr marL="177840" indent="-177840">
              <a:spcBef>
                <a:spcPts val="3501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Use the high school National Honor Society as a service project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  <a:p>
            <a:pPr marL="177840" indent="-177840">
              <a:spcBef>
                <a:spcPts val="3501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An Eagle Scout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  <a:p>
            <a:pPr marL="177840" indent="-177840">
              <a:spcBef>
                <a:spcPts val="3501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Service groups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4440" y="914400"/>
            <a:ext cx="7924680" cy="5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Need Help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1055160" y="1981080"/>
            <a:ext cx="7085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>
              <a:spcBef>
                <a:spcPts val="3501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  <a:p>
            <a:pPr marL="177840" indent="-177840">
              <a:spcBef>
                <a:spcPts val="3501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Nancy Updegraff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  <a:p>
            <a:pPr lvl="1" marL="571680" indent="-228600">
              <a:spcBef>
                <a:spcPts val="2251"/>
              </a:spcBef>
              <a:buClr>
                <a:srgbClr val="1f52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976d0"/>
                </a:solidFill>
                <a:latin typeface="Arial Unicode MS"/>
              </a:rPr>
              <a:t>Nancy.updegraff@hmhco.com</a:t>
            </a:r>
            <a:endParaRPr b="0" lang="en-US" sz="1800" spc="-1" strike="noStrike">
              <a:solidFill>
                <a:srgbClr val="1976d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4440" y="914400"/>
            <a:ext cx="7924680" cy="5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Getting Registered on Grants.gov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55160" y="1981080"/>
            <a:ext cx="7085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>
              <a:spcBef>
                <a:spcPts val="3501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In order to apply for a grant on Grants.gov you must be registered. You </a:t>
            </a:r>
            <a:r>
              <a:rPr b="1" lang="en-US" sz="2800" spc="-1" strike="noStrike">
                <a:solidFill>
                  <a:srgbClr val="1976d0"/>
                </a:solidFill>
                <a:latin typeface="Arial"/>
              </a:rPr>
              <a:t>must</a:t>
            </a: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 be registered and have a number to submit the grant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5T07:57:33Z</dcterms:created>
  <dc:creator>NUpdegraff</dc:creator>
  <dc:description/>
  <dc:language>en-US</dc:language>
  <cp:lastModifiedBy>kthompson</cp:lastModifiedBy>
  <cp:lastPrinted>2003-09-05T18:38:31Z</cp:lastPrinted>
  <dcterms:modified xsi:type="dcterms:W3CDTF">2013-02-14T13:37:39Z</dcterms:modified>
  <cp:revision>198</cp:revision>
  <dc:subject/>
  <dc:title>The challenge of change</dc:title>
</cp:coreProperties>
</file>